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381D3-23A1-4331-A738-653433F8369B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A176-8A67-4A2F-BEEC-3D4BAB1E1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5D04-D20A-4755-A3E8-C02DCEEB8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3CB6B2-A17E-471D-AC97-323AE87FF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2EB181-A8B5-46B9-8DAC-B8737E020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FF8B53-88A8-4468-9553-393E9816E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3537EC-4BB5-4C2D-BEF9-643EA196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DF55C4-F409-4093-B0EC-79DCE7AC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4CB4D1-991D-4AB9-AB2D-0C391EB8E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0BCCBC-E276-4EFE-A7DA-74E53C1ED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F76756-DC8B-4E9B-915A-311ABC47F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FA5072-62A4-4585-AABF-75CB725E7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9B2B08-DDE8-4073-864D-7FC044FD6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B7B1-5B8D-47A3-AB31-ACE099A9A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1C93BD-9AFD-484D-AA4F-D5FD638DA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3EA0E8-AB48-45FA-9B90-A33926D2C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1133A1-FCB6-4457-AD10-BBEB2DDA7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8A5B94-2816-4F15-8A80-3A9F17853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C2CE13-85C6-4105-8757-778280DE6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41BBB4-07F1-4FAF-BE1F-D4D61885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12306C-8511-4C96-9862-260A8B81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FFB034-A84F-4D80-8E6E-D079E30F9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45EC38-FFBD-4F6D-9AF9-DC9D2A3A7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E51BD3-598C-4A3F-A8B2-001ACB2C3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BAC3-C36F-4662-AA46-156D577F4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D472AA-C715-41FB-AE6E-2A629E942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1C9495-F246-4427-9DD7-D7DA6EF25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42434E-41A5-4804-9B0F-BCCA36793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F74624-A2FA-4059-919E-FD6EE251A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9B8913-C6B7-4D2F-9EEE-3037AC0A4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D47449-FB7F-489B-9403-72DFC28DE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27BE1D-C165-4F4D-B9F4-E9837C01B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0BC994-C5D7-4F31-8A28-9A5032388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272E2E-0CDA-4324-8ADE-A1A73BD5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0366A6-59C3-48AA-8F65-056B3891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91CCC-9D93-4762-BECC-9D5EEEEBC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9209F8-A431-49C5-A92C-367C64C87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61E098-6764-45AF-9E7B-D08AA91A1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2D4BBD-AB51-4D60-BB96-8FCC541A8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BAD0C9-0A9A-4941-8E92-A6DDFB19A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74D8CF-B57C-40E9-8466-9D928385A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076787-0E25-4318-BFD2-312160460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91D168-783E-471F-9245-DDBE5A951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446426-778F-401F-8D0A-3D61E8773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6884FD-8539-4AD6-B03F-E462242D9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6F1E4A-62CC-49A0-BFB2-BBE1DCA1D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CA899-E09F-47E9-9ECD-90B9AC17E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146AD2-E2B9-4999-9365-26915F5FC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78A41E-9015-471A-A64B-E2329D5E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5D0A9B-B03B-4956-81CA-6A026A2C6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818020-5898-4AAF-9F8B-2D586B96E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5DB00D-5FE3-4102-95BC-90E0F5010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FC2D65C-35E0-4047-9BB9-DDFB6B288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E008433-C8D8-4ED7-A0E7-E1EF1639C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3FC6E5D-90CA-4797-95FC-007FDD92C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D39B8AB-B053-4289-B376-FB496AE1E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CF6DF57-D66C-4AB0-8DAB-C58B73D08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9E7C8-6B61-4EDF-9574-3467FD53B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44C129F-51BF-4911-BE13-E33C76FB0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9BE6146-4DD6-4151-81FB-063FEDC38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8552C5B-2A1C-4FCF-B11A-60FF04A1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25D68FA-54D8-4C8A-B9A7-555738C7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02EBBA7-9C5A-4E42-9F31-C22D77EC1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017AFD7-AC32-49D1-8C2A-D40E12940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83F2847-1E64-4E98-BD5E-B00D41970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1B9FC-FFDA-424C-BF6A-75059C719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AFC4A-6770-42E0-AC9D-0C3CB5E63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179F5-6F95-4A22-BA89-D05EA1EE5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B52C7-9DD2-4423-82C1-97CEAFB0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B298-75C8-41F0-9A88-73A1A95D2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D1504-1027-4531-8A9A-572DE5FE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2CC74-EC4C-4953-B272-C6508D2A6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AB5BB-54DA-4AAE-A521-64A61827C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5197E-C48D-47F2-917B-EB84B123C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CCEFE-51BA-477A-BC43-B484C3968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B774A-C8DA-41FC-A64B-58C48AAC1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3DE4D-5B0D-44B0-B94F-7A518606E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0DA85-1715-46ED-B6FC-F2B2E286F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5F404-E913-4A75-B571-4416820FE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4F8E6-CAE5-416E-B982-5B7D1DC4E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2F81-8D74-42C1-9062-B41D7B20E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4A762-2C2C-4921-BC4B-AEF05A5C2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0664D-0F69-4A68-A9F2-6DDEA6F82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C57DB-C453-4358-B865-D83012E1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3088F-9F20-46CB-BD0B-51B07F43D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8A4BC-D47B-4501-BDDA-94DACAB20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80EF0-69FC-4009-8133-3B811C86F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01201-EF91-49F9-9095-0CABFD6D4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738E7-E1FE-4A7E-A87E-A7EAB7CBB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23442-93DA-4C01-9098-1E6C629B9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78288-6E2A-4F4F-B793-4E1B802CC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799F-ABD2-437F-9727-3A90FA54D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9D122-350D-438E-A34A-46AE71293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3D592-2F45-4D45-82BE-674C29C44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F47B0-7557-4590-908E-E30C2E73F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A8AF7-1F53-4CEC-A506-57A623D5F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4BCAA-422D-49D4-B15D-202FE702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B3AC1-742F-4286-8F1D-5C99A3FC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47829-9437-4BC9-A269-C31B79C8E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54852-B59C-403B-A5C0-5BB4BD90A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534FD-2A92-4A70-BD63-468435E4D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17F3A-5475-4F8D-8ECE-A9E4198CE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D9C7-E0B3-4074-BEFB-216010EB3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BE019-376D-4483-8EB7-BE2B46C63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91693-0CC4-4874-9F20-746C570B3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4F9B6A-0E20-4EDA-8466-B63723035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848E0-5AD2-4ECF-BC1B-477C2769D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933462-7862-434D-8D72-BA5CEE7C1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FC91AF-73C3-4BB3-86C9-5E58B760C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705A2D-2684-4FC4-A335-C9A03853C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3FBB7A-57B2-4D98-B726-46226B3F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C70DF-066D-4982-841A-C430CA800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53FDB-26EF-4234-BBB9-EC7135440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4F6E-CA7A-454D-B3C4-65ADC4E85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AA0642-277D-415F-A203-BA5C1DF55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61E181-D4D2-4283-91A3-6EAAD9A79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5FF0BD-62B4-4FF7-A926-08FF35EB1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0B6C4A-DF4A-469A-9218-55E7883A2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1EC964-993A-4E56-9BC7-E9DB1357E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6ED499-6E27-4FC6-B74C-F2D369A80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E93F73-A051-4E33-8D9A-76FB76CC8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6648B1-2619-4CAD-99A8-8B75AD271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5D7F74-BB3E-4E7E-B349-D762A047C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7CD9B7-4091-4B8C-9320-91948F7B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C94E-234B-4356-AB65-3B80C88C6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F4AF48-D306-46D6-9D8E-838A3F61D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FCA5D6-FA31-45F5-8846-CCF77C4D7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33F19C-3AF6-456F-A272-496ADD66D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6E22DD-8555-423A-AB58-CE484221A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8E38B7-A78B-4662-B30B-9737BE3EC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1B6A81-5D2D-4901-92E3-076F47104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25474C-C1C9-4EA5-A097-80CBCD7B2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6971BA-B99F-46AC-9E42-B70C4E98E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DC18D3-A88D-4A01-A80B-44BD261C8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A5C0AF-A073-49C3-89DA-896D07D8B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5824-F6D1-4642-8D57-ACC7BF0A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501941-935E-4A17-B765-C338246C9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EEB296-FF29-4FA3-B93C-BCB51A690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5DC8E7-4FE8-4E74-93D3-63B59CE1E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EC1FCF-D643-4440-BEA8-5108948C5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C280F-BE5F-4F97-B55E-AA9A5D420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B14473-6CED-438C-B53B-D1ABF50BF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A45E73-CBE7-4DF6-AE2A-618350450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211A26-79E2-465C-BF57-06C51CABF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0AF648-2F1A-405D-9E02-838102AB9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479AEB-670A-401C-99BA-63B6A7E37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4277-E22E-46D8-9C48-D172177F5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A95606-9E9D-4F35-8BAC-5C177CCE4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FFE3E1-F8B9-414A-9223-7463DBAAF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380461-2EBA-446E-81F8-2010A70ED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E7CE8D-C885-4742-A43B-BA49BD8A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BBA512-8448-4AAE-BEAB-E2FB0E554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42D28D-7331-47AC-B58B-74C9EBFBE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1EA2C0-7B49-4494-9C86-33EE68355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10B8AE-864E-493E-A58E-FE6124229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EF04B0-F201-43DF-B38A-E815C1201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908CD1-45D7-4905-8D92-32DBF53DC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ABA13-6576-4F1A-9E48-80E3FB88A6B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B3A51-825A-4B36-8C99-6EAECAD9354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E8B17-1750-4CCC-B411-684189B132E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34848-3B9D-4550-80DB-FB3A06B8CCB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E37DE-9E57-4661-A75D-6412FAAFEA5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FABB4-B9C4-4279-9430-F74D2A0020C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D7322-DEED-4D8A-ACE5-08EB19603A4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BF240-5102-4EDB-8046-3F444FAFA32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965E9-9CE5-4EB3-9BF5-ECA5D30B248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BB8AE-282C-4A65-9AA6-FD2ACFFEDF4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CFA25-C913-4B91-AABA-00E0B9928F0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775CD-53D3-4D3A-AE12-239C1A53109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21AB7-4124-4C8F-A761-A2C6ABFD095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9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7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9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1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3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289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644720" y="185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전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62880" y="2500200"/>
            <a:ext cx="14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문제 해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8E384-7EE5-45CA-8233-50167F912DD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0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41" name="그룹 129"/>
          <p:cNvGrpSpPr/>
          <p:nvPr/>
        </p:nvGrpSpPr>
        <p:grpSpPr>
          <a:xfrm>
            <a:off x="298440" y="2300400"/>
            <a:ext cx="8535960" cy="3655800"/>
            <a:chOff x="298440" y="2300400"/>
            <a:chExt cx="8535960" cy="3655800"/>
          </a:xfrm>
        </p:grpSpPr>
        <p:grpSp>
          <p:nvGrpSpPr>
            <p:cNvPr id="1142" name="그룹 56"/>
            <p:cNvGrpSpPr/>
            <p:nvPr/>
          </p:nvGrpSpPr>
          <p:grpSpPr>
            <a:xfrm>
              <a:off x="7505640" y="3916800"/>
              <a:ext cx="352440" cy="455400"/>
              <a:chOff x="7505640" y="3916800"/>
              <a:chExt cx="352440" cy="455400"/>
            </a:xfrm>
          </p:grpSpPr>
          <p:sp>
            <p:nvSpPr>
              <p:cNvPr id="1143" name="오른쪽 화살표 84"/>
              <p:cNvSpPr/>
              <p:nvPr/>
            </p:nvSpPr>
            <p:spPr>
              <a:xfrm rot="5400000">
                <a:off x="7454160" y="3968280"/>
                <a:ext cx="455400" cy="352440"/>
              </a:xfrm>
              <a:prstGeom prst="rightArrow">
                <a:avLst>
                  <a:gd name="adj1" fmla="val 60000"/>
                  <a:gd name="adj2" fmla="val 49980"/>
                </a:avLst>
              </a:prstGeom>
              <a:solidFill>
                <a:srgbClr val="475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오른쪽 화살표 20"/>
              <p:cNvSpPr/>
              <p:nvPr/>
            </p:nvSpPr>
            <p:spPr>
              <a:xfrm rot="5400000">
                <a:off x="7507080" y="3984840"/>
                <a:ext cx="34920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그룹 59"/>
            <p:cNvGrpSpPr/>
            <p:nvPr/>
          </p:nvGrpSpPr>
          <p:grpSpPr>
            <a:xfrm>
              <a:off x="5877000" y="5234040"/>
              <a:ext cx="455040" cy="352800"/>
              <a:chOff x="5877000" y="5234040"/>
              <a:chExt cx="455040" cy="352800"/>
            </a:xfrm>
          </p:grpSpPr>
          <p:sp>
            <p:nvSpPr>
              <p:cNvPr id="1146" name="오른쪽 화살표 78"/>
              <p:cNvSpPr/>
              <p:nvPr/>
            </p:nvSpPr>
            <p:spPr>
              <a:xfrm flipH="1">
                <a:off x="58770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4d49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오른쪽 화살표 26"/>
              <p:cNvSpPr/>
              <p:nvPr/>
            </p:nvSpPr>
            <p:spPr>
              <a:xfrm flipH="1">
                <a:off x="59828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8" name="그룹 62"/>
            <p:cNvGrpSpPr/>
            <p:nvPr/>
          </p:nvGrpSpPr>
          <p:grpSpPr>
            <a:xfrm>
              <a:off x="2786400" y="5234040"/>
              <a:ext cx="455040" cy="352800"/>
              <a:chOff x="2786400" y="5234040"/>
              <a:chExt cx="455040" cy="352800"/>
            </a:xfrm>
          </p:grpSpPr>
          <p:sp>
            <p:nvSpPr>
              <p:cNvPr id="1149" name="오른쪽 화살표 72"/>
              <p:cNvSpPr/>
              <p:nvPr/>
            </p:nvSpPr>
            <p:spPr>
              <a:xfrm flipH="1">
                <a:off x="27864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624b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오른쪽 화살표 32"/>
              <p:cNvSpPr/>
              <p:nvPr/>
            </p:nvSpPr>
            <p:spPr>
              <a:xfrm flipH="1">
                <a:off x="28922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1" name="그룹 128"/>
            <p:cNvGrpSpPr/>
            <p:nvPr/>
          </p:nvGrpSpPr>
          <p:grpSpPr>
            <a:xfrm>
              <a:off x="334080" y="2300400"/>
              <a:ext cx="8476920" cy="1500120"/>
              <a:chOff x="334080" y="2300400"/>
              <a:chExt cx="8476920" cy="1500120"/>
            </a:xfrm>
          </p:grpSpPr>
          <p:grpSp>
            <p:nvGrpSpPr>
              <p:cNvPr id="1152" name="그룹 41"/>
              <p:cNvGrpSpPr/>
              <p:nvPr/>
            </p:nvGrpSpPr>
            <p:grpSpPr>
              <a:xfrm>
                <a:off x="2877840" y="3027960"/>
                <a:ext cx="455040" cy="352800"/>
                <a:chOff x="2877840" y="3027960"/>
                <a:chExt cx="455040" cy="352800"/>
              </a:xfrm>
            </p:grpSpPr>
            <p:sp>
              <p:nvSpPr>
                <p:cNvPr id="1153" name="오른쪽 화살표 96"/>
                <p:cNvSpPr/>
                <p:nvPr/>
              </p:nvSpPr>
              <p:spPr>
                <a:xfrm>
                  <a:off x="2877840" y="3027960"/>
                  <a:ext cx="455040" cy="352800"/>
                </a:xfrm>
                <a:prstGeom prst="rightArrow">
                  <a:avLst>
                    <a:gd name="adj1" fmla="val 60000"/>
                    <a:gd name="adj2" fmla="val 51675"/>
                  </a:avLst>
                </a:prstGeom>
                <a:solidFill>
                  <a:srgbClr val="4380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오른쪽 화살표 8"/>
                <p:cNvSpPr/>
                <p:nvPr/>
              </p:nvSpPr>
              <p:spPr>
                <a:xfrm>
                  <a:off x="2877840" y="3107520"/>
                  <a:ext cx="34884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5" name="그룹 52"/>
              <p:cNvGrpSpPr/>
              <p:nvPr/>
            </p:nvGrpSpPr>
            <p:grpSpPr>
              <a:xfrm>
                <a:off x="5949720" y="3027960"/>
                <a:ext cx="455040" cy="352800"/>
                <a:chOff x="5949720" y="3027960"/>
                <a:chExt cx="455040" cy="352800"/>
              </a:xfrm>
            </p:grpSpPr>
            <p:sp>
              <p:nvSpPr>
                <p:cNvPr id="1156" name="오른쪽 화살표 90"/>
                <p:cNvSpPr/>
                <p:nvPr/>
              </p:nvSpPr>
              <p:spPr>
                <a:xfrm>
                  <a:off x="5949720" y="3027960"/>
                  <a:ext cx="455040" cy="352800"/>
                </a:xfrm>
                <a:prstGeom prst="rightArrow">
                  <a:avLst>
                    <a:gd name="adj1" fmla="val 60000"/>
                    <a:gd name="adj2" fmla="val 53156"/>
                  </a:avLst>
                </a:prstGeom>
                <a:solidFill>
                  <a:srgbClr val="456b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오른쪽 화살표 14"/>
                <p:cNvSpPr/>
                <p:nvPr/>
              </p:nvSpPr>
              <p:spPr>
                <a:xfrm>
                  <a:off x="5949720" y="3107520"/>
                  <a:ext cx="35892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8" name="그룹 123"/>
              <p:cNvGrpSpPr/>
              <p:nvPr/>
            </p:nvGrpSpPr>
            <p:grpSpPr>
              <a:xfrm>
                <a:off x="334080" y="2300400"/>
                <a:ext cx="2428920" cy="1500120"/>
                <a:chOff x="334080" y="2300400"/>
                <a:chExt cx="2428920" cy="1500120"/>
              </a:xfrm>
            </p:grpSpPr>
            <p:grpSp>
              <p:nvGrpSpPr>
                <p:cNvPr id="1159" name="그룹 111"/>
                <p:cNvGrpSpPr/>
                <p:nvPr/>
              </p:nvGrpSpPr>
              <p:grpSpPr>
                <a:xfrm>
                  <a:off x="334080" y="2300400"/>
                  <a:ext cx="2428920" cy="1500120"/>
                  <a:chOff x="334080" y="2300400"/>
                  <a:chExt cx="2428920" cy="1500120"/>
                </a:xfrm>
              </p:grpSpPr>
              <p:grpSp>
                <p:nvGrpSpPr>
                  <p:cNvPr id="1160" name="그룹 39"/>
                  <p:cNvGrpSpPr/>
                  <p:nvPr/>
                </p:nvGrpSpPr>
                <p:grpSpPr>
                  <a:xfrm>
                    <a:off x="334080" y="2300400"/>
                    <a:ext cx="1820520" cy="812880"/>
                    <a:chOff x="334080" y="2300400"/>
                    <a:chExt cx="1820520" cy="812880"/>
                  </a:xfrm>
                </p:grpSpPr>
                <p:sp>
                  <p:nvSpPr>
                    <p:cNvPr id="1161" name="모서리가 둥근 직사각형 100"/>
                    <p:cNvSpPr/>
                    <p:nvPr/>
                  </p:nvSpPr>
                  <p:spPr>
                    <a:xfrm>
                      <a:off x="334080" y="2300400"/>
                      <a:ext cx="182052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380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2" name="모서리가 둥근 직사각형 4"/>
                    <p:cNvSpPr/>
                    <p:nvPr/>
                  </p:nvSpPr>
                  <p:spPr>
                    <a:xfrm>
                      <a:off x="334080" y="2300400"/>
                      <a:ext cx="1820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3" name="모서리가 둥근 직사각형 98"/>
                  <p:cNvSpPr/>
                  <p:nvPr/>
                </p:nvSpPr>
                <p:spPr>
                  <a:xfrm>
                    <a:off x="405000" y="2602080"/>
                    <a:ext cx="235800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380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가 존재 한다는 사실을 정확하게 인지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4" name="TextBox 115"/>
                <p:cNvSpPr/>
                <p:nvPr/>
              </p:nvSpPr>
              <p:spPr>
                <a:xfrm>
                  <a:off x="57096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인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5" name="그룹 124"/>
              <p:cNvGrpSpPr/>
              <p:nvPr/>
            </p:nvGrpSpPr>
            <p:grpSpPr>
              <a:xfrm>
                <a:off x="3434760" y="2300400"/>
                <a:ext cx="2370960" cy="1500120"/>
                <a:chOff x="3434760" y="2300400"/>
                <a:chExt cx="2370960" cy="1500120"/>
              </a:xfrm>
            </p:grpSpPr>
            <p:grpSp>
              <p:nvGrpSpPr>
                <p:cNvPr id="1166" name="그룹 112"/>
                <p:cNvGrpSpPr/>
                <p:nvPr/>
              </p:nvGrpSpPr>
              <p:grpSpPr>
                <a:xfrm>
                  <a:off x="3434760" y="2300400"/>
                  <a:ext cx="2370960" cy="1500120"/>
                  <a:chOff x="3434760" y="2300400"/>
                  <a:chExt cx="2370960" cy="1500120"/>
                </a:xfrm>
              </p:grpSpPr>
              <p:grpSp>
                <p:nvGrpSpPr>
                  <p:cNvPr id="1167" name="그룹 42"/>
                  <p:cNvGrpSpPr/>
                  <p:nvPr/>
                </p:nvGrpSpPr>
                <p:grpSpPr>
                  <a:xfrm>
                    <a:off x="3434760" y="2300400"/>
                    <a:ext cx="1811520" cy="812520"/>
                    <a:chOff x="3434760" y="2300400"/>
                    <a:chExt cx="1811520" cy="812520"/>
                  </a:xfrm>
                </p:grpSpPr>
                <p:sp>
                  <p:nvSpPr>
                    <p:cNvPr id="1168" name="모서리가 둥근 직사각형 94"/>
                    <p:cNvSpPr/>
                    <p:nvPr/>
                  </p:nvSpPr>
                  <p:spPr>
                    <a:xfrm>
                      <a:off x="3434760" y="2300400"/>
                      <a:ext cx="1811520" cy="81252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56f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9" name="모서리가 둥근 직사각형 10"/>
                    <p:cNvSpPr/>
                    <p:nvPr/>
                  </p:nvSpPr>
                  <p:spPr>
                    <a:xfrm>
                      <a:off x="3434760" y="2300400"/>
                      <a:ext cx="1811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0" name="그룹 43"/>
                  <p:cNvGrpSpPr/>
                  <p:nvPr/>
                </p:nvGrpSpPr>
                <p:grpSpPr>
                  <a:xfrm>
                    <a:off x="3506040" y="2601720"/>
                    <a:ext cx="2299680" cy="1198800"/>
                    <a:chOff x="3506040" y="2601720"/>
                    <a:chExt cx="2299680" cy="1198800"/>
                  </a:xfrm>
                </p:grpSpPr>
                <p:sp>
                  <p:nvSpPr>
                    <p:cNvPr id="1171" name="모서리가 둥근 직사각형 92"/>
                    <p:cNvSpPr/>
                    <p:nvPr/>
                  </p:nvSpPr>
                  <p:spPr>
                    <a:xfrm>
                      <a:off x="3506040" y="2601720"/>
                      <a:ext cx="2261880" cy="119880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ffffff">
                        <a:alpha val="90000"/>
                      </a:srgbClr>
                    </a:solidFill>
                    <a:ln w="19080">
                      <a:solidFill>
                        <a:srgbClr val="456f8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문제의 본질을 확인하고 문제해결의 제약요건들을 확인하는 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2" name="모서리가 둥근 직사각형 12"/>
                    <p:cNvSpPr/>
                    <p:nvPr/>
                  </p:nvSpPr>
                  <p:spPr>
                    <a:xfrm>
                      <a:off x="3659040" y="2636640"/>
                      <a:ext cx="2146680" cy="1128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71280" anchor="t">
                      <a:noAutofit/>
                    </a:bodyPr>
                    <a:p>
                      <a:pPr lvl="1" marL="57240" indent="-57240">
                        <a:lnSpc>
                          <a:spcPct val="90000"/>
                        </a:lnSpc>
                        <a:spcAft>
                          <a:spcPts val="187"/>
                        </a:spcAft>
                        <a:buClr>
                          <a:srgbClr val="000000"/>
                        </a:buClr>
                        <a:buFont typeface="휴먼모음T"/>
                        <a:buChar char="•"/>
                        <a:tabLst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173" name="TextBox 117"/>
                <p:cNvSpPr/>
                <p:nvPr/>
              </p:nvSpPr>
              <p:spPr>
                <a:xfrm>
                  <a:off x="367164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정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4" name="그룹 125"/>
              <p:cNvGrpSpPr/>
              <p:nvPr/>
            </p:nvGrpSpPr>
            <p:grpSpPr>
              <a:xfrm>
                <a:off x="6477840" y="2300400"/>
                <a:ext cx="2333160" cy="1500120"/>
                <a:chOff x="6477840" y="2300400"/>
                <a:chExt cx="2333160" cy="1500120"/>
              </a:xfrm>
            </p:grpSpPr>
            <p:grpSp>
              <p:nvGrpSpPr>
                <p:cNvPr id="1175" name="그룹 109"/>
                <p:cNvGrpSpPr/>
                <p:nvPr/>
              </p:nvGrpSpPr>
              <p:grpSpPr>
                <a:xfrm>
                  <a:off x="6477840" y="2300400"/>
                  <a:ext cx="2333160" cy="1500120"/>
                  <a:chOff x="6477840" y="2300400"/>
                  <a:chExt cx="2333160" cy="1500120"/>
                </a:xfrm>
              </p:grpSpPr>
              <p:grpSp>
                <p:nvGrpSpPr>
                  <p:cNvPr id="1176" name="그룹 54"/>
                  <p:cNvGrpSpPr/>
                  <p:nvPr/>
                </p:nvGrpSpPr>
                <p:grpSpPr>
                  <a:xfrm>
                    <a:off x="6477840" y="2300400"/>
                    <a:ext cx="1811880" cy="812880"/>
                    <a:chOff x="6477840" y="2300400"/>
                    <a:chExt cx="1811880" cy="812880"/>
                  </a:xfrm>
                </p:grpSpPr>
                <p:sp>
                  <p:nvSpPr>
                    <p:cNvPr id="1177" name="모서리가 둥근 직사각형 88"/>
                    <p:cNvSpPr/>
                    <p:nvPr/>
                  </p:nvSpPr>
                  <p:spPr>
                    <a:xfrm>
                      <a:off x="6477840" y="2300400"/>
                      <a:ext cx="181188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65f85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8" name="모서리가 둥근 직사각형 16"/>
                    <p:cNvSpPr/>
                    <p:nvPr/>
                  </p:nvSpPr>
                  <p:spPr>
                    <a:xfrm>
                      <a:off x="6477840" y="2300400"/>
                      <a:ext cx="181188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9" name="모서리가 둥근 직사각형 86"/>
                  <p:cNvSpPr/>
                  <p:nvPr/>
                </p:nvSpPr>
                <p:spPr>
                  <a:xfrm>
                    <a:off x="6537240" y="2602080"/>
                    <a:ext cx="227376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65f8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를 다른 말로 진술하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과거 문제와 관련 짓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시각적으로 표현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TextBox 118"/>
                <p:cNvSpPr/>
                <p:nvPr/>
              </p:nvSpPr>
              <p:spPr>
                <a:xfrm>
                  <a:off x="671472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표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1" name="그룹 126"/>
            <p:cNvGrpSpPr/>
            <p:nvPr/>
          </p:nvGrpSpPr>
          <p:grpSpPr>
            <a:xfrm>
              <a:off x="6500880" y="4449960"/>
              <a:ext cx="2333520" cy="1500120"/>
              <a:chOff x="6500880" y="4449960"/>
              <a:chExt cx="2333520" cy="1500120"/>
            </a:xfrm>
          </p:grpSpPr>
          <p:grpSp>
            <p:nvGrpSpPr>
              <p:cNvPr id="1182" name="그룹 108"/>
              <p:cNvGrpSpPr/>
              <p:nvPr/>
            </p:nvGrpSpPr>
            <p:grpSpPr>
              <a:xfrm>
                <a:off x="6500880" y="4449960"/>
                <a:ext cx="2333520" cy="1500120"/>
                <a:chOff x="6500880" y="4449960"/>
                <a:chExt cx="2333520" cy="1500120"/>
              </a:xfrm>
            </p:grpSpPr>
            <p:grpSp>
              <p:nvGrpSpPr>
                <p:cNvPr id="1183" name="그룹 57"/>
                <p:cNvGrpSpPr/>
                <p:nvPr/>
              </p:nvGrpSpPr>
              <p:grpSpPr>
                <a:xfrm>
                  <a:off x="6500880" y="4449960"/>
                  <a:ext cx="1811880" cy="812880"/>
                  <a:chOff x="6500880" y="4449960"/>
                  <a:chExt cx="1811880" cy="812880"/>
                </a:xfrm>
              </p:grpSpPr>
              <p:sp>
                <p:nvSpPr>
                  <p:cNvPr id="1184" name="모서리가 둥근 직사각형 82"/>
                  <p:cNvSpPr/>
                  <p:nvPr/>
                </p:nvSpPr>
                <p:spPr>
                  <a:xfrm>
                    <a:off x="6500880" y="4449960"/>
                    <a:ext cx="181188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4850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모서리가 둥근 직사각형 22"/>
                  <p:cNvSpPr/>
                  <p:nvPr/>
                </p:nvSpPr>
                <p:spPr>
                  <a:xfrm>
                    <a:off x="6500880" y="4449960"/>
                    <a:ext cx="181188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6" name="모서리가 둥근 직사각형 80"/>
                <p:cNvSpPr/>
                <p:nvPr/>
              </p:nvSpPr>
              <p:spPr>
                <a:xfrm>
                  <a:off x="6584400" y="4751280"/>
                  <a:ext cx="225000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485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해결전략들을 생성한 후 가장 적절한 전략을 선택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실행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TextBox 119"/>
              <p:cNvSpPr/>
              <p:nvPr/>
            </p:nvSpPr>
            <p:spPr>
              <a:xfrm>
                <a:off x="6636240" y="4449960"/>
                <a:ext cx="1535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전략의 선택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실행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8" name="그룹 127"/>
            <p:cNvGrpSpPr/>
            <p:nvPr/>
          </p:nvGrpSpPr>
          <p:grpSpPr>
            <a:xfrm>
              <a:off x="3378240" y="4449960"/>
              <a:ext cx="2333160" cy="1500480"/>
              <a:chOff x="3378240" y="4449960"/>
              <a:chExt cx="2333160" cy="1500480"/>
            </a:xfrm>
          </p:grpSpPr>
          <p:grpSp>
            <p:nvGrpSpPr>
              <p:cNvPr id="1189" name="그룹 113"/>
              <p:cNvGrpSpPr/>
              <p:nvPr/>
            </p:nvGrpSpPr>
            <p:grpSpPr>
              <a:xfrm>
                <a:off x="3378240" y="4449960"/>
                <a:ext cx="2333160" cy="1500480"/>
                <a:chOff x="3378240" y="4449960"/>
                <a:chExt cx="2333160" cy="1500480"/>
              </a:xfrm>
            </p:grpSpPr>
            <p:grpSp>
              <p:nvGrpSpPr>
                <p:cNvPr id="1190" name="그룹 60"/>
                <p:cNvGrpSpPr/>
                <p:nvPr/>
              </p:nvGrpSpPr>
              <p:grpSpPr>
                <a:xfrm>
                  <a:off x="3378240" y="4449960"/>
                  <a:ext cx="1811160" cy="812880"/>
                  <a:chOff x="3378240" y="4449960"/>
                  <a:chExt cx="1811160" cy="812880"/>
                </a:xfrm>
              </p:grpSpPr>
              <p:sp>
                <p:nvSpPr>
                  <p:cNvPr id="1191" name="모서리가 둥근 직사각형 76"/>
                  <p:cNvSpPr/>
                  <p:nvPr/>
                </p:nvSpPr>
                <p:spPr>
                  <a:xfrm>
                    <a:off x="3378240" y="4449960"/>
                    <a:ext cx="181116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514a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모서리가 둥근 직사각형 28"/>
                  <p:cNvSpPr/>
                  <p:nvPr/>
                </p:nvSpPr>
                <p:spPr>
                  <a:xfrm>
                    <a:off x="3378240" y="4449960"/>
                    <a:ext cx="181116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3" name="모서리가 둥근 직사각형 74"/>
                <p:cNvSpPr/>
                <p:nvPr/>
              </p:nvSpPr>
              <p:spPr>
                <a:xfrm>
                  <a:off x="3449520" y="4751640"/>
                  <a:ext cx="226188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514a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하는 도중 문제가 제대로 해결되고 있는지 수시로 점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4" name="TextBox 120"/>
              <p:cNvSpPr/>
              <p:nvPr/>
            </p:nvSpPr>
            <p:spPr>
              <a:xfrm>
                <a:off x="3552120" y="4449960"/>
                <a:ext cx="147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과정의 점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5" name="그룹 122"/>
            <p:cNvGrpSpPr/>
            <p:nvPr/>
          </p:nvGrpSpPr>
          <p:grpSpPr>
            <a:xfrm>
              <a:off x="298440" y="4443480"/>
              <a:ext cx="2332800" cy="1512720"/>
              <a:chOff x="298440" y="4443480"/>
              <a:chExt cx="2332800" cy="1512720"/>
            </a:xfrm>
          </p:grpSpPr>
          <p:grpSp>
            <p:nvGrpSpPr>
              <p:cNvPr id="1196" name="그룹 114"/>
              <p:cNvGrpSpPr/>
              <p:nvPr/>
            </p:nvGrpSpPr>
            <p:grpSpPr>
              <a:xfrm>
                <a:off x="298440" y="4455720"/>
                <a:ext cx="2332800" cy="1500480"/>
                <a:chOff x="298440" y="4455720"/>
                <a:chExt cx="2332800" cy="1500480"/>
              </a:xfrm>
            </p:grpSpPr>
            <p:grpSp>
              <p:nvGrpSpPr>
                <p:cNvPr id="1197" name="그룹 63"/>
                <p:cNvGrpSpPr/>
                <p:nvPr/>
              </p:nvGrpSpPr>
              <p:grpSpPr>
                <a:xfrm>
                  <a:off x="298440" y="4455720"/>
                  <a:ext cx="1810800" cy="812880"/>
                  <a:chOff x="298440" y="4455720"/>
                  <a:chExt cx="1810800" cy="812880"/>
                </a:xfrm>
              </p:grpSpPr>
              <p:sp>
                <p:nvSpPr>
                  <p:cNvPr id="1198" name="모서리가 둥근 직사각형 69"/>
                  <p:cNvSpPr/>
                  <p:nvPr/>
                </p:nvSpPr>
                <p:spPr>
                  <a:xfrm>
                    <a:off x="298440" y="4455720"/>
                    <a:ext cx="181080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624b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모서리가 둥근 직사각형 34"/>
                  <p:cNvSpPr/>
                  <p:nvPr/>
                </p:nvSpPr>
                <p:spPr>
                  <a:xfrm>
                    <a:off x="298440" y="4455720"/>
                    <a:ext cx="181080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00" name="모서리가 둥근 직사각형 67"/>
                <p:cNvSpPr/>
                <p:nvPr/>
              </p:nvSpPr>
              <p:spPr>
                <a:xfrm>
                  <a:off x="369720" y="4757400"/>
                  <a:ext cx="226152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624b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한 다음 해결책의 적절성을 평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1" name="TextBox 121"/>
              <p:cNvSpPr/>
              <p:nvPr/>
            </p:nvSpPr>
            <p:spPr>
              <a:xfrm>
                <a:off x="497520" y="4443480"/>
                <a:ext cx="1200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의 평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0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4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28"/>
          <p:cNvGrpSpPr/>
          <p:nvPr/>
        </p:nvGrpSpPr>
        <p:grpSpPr>
          <a:xfrm>
            <a:off x="4710240" y="2243160"/>
            <a:ext cx="4362480" cy="4186080"/>
            <a:chOff x="4710240" y="2243160"/>
            <a:chExt cx="4362480" cy="4186080"/>
          </a:xfrm>
        </p:grpSpPr>
        <p:sp>
          <p:nvSpPr>
            <p:cNvPr id="1214" name="모서리가 둥근 직사각형 21"/>
            <p:cNvSpPr/>
            <p:nvPr/>
          </p:nvSpPr>
          <p:spPr>
            <a:xfrm>
              <a:off x="4734000" y="2243160"/>
              <a:ext cx="4105440" cy="4186080"/>
            </a:xfrm>
            <a:custGeom>
              <a:avLst/>
              <a:gdLst>
                <a:gd name="textAreaLeft" fmla="*/ 81000 w 4105440"/>
                <a:gd name="textAreaRight" fmla="*/ 4024440 w 410544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4">
                  <a:moveTo>
                    <a:pt x="1458" y="0"/>
                  </a:moveTo>
                  <a:arcTo wR="1458" hR="1458" stAng="16200000" swAng="-5400000"/>
                  <a:lnTo>
                    <a:pt x="0" y="20566"/>
                  </a:lnTo>
                  <a:arcTo wR="1458" hR="1458" stAng="10800000" swAng="-5400000"/>
                  <a:lnTo>
                    <a:pt x="20142" y="22024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직사각형 22"/>
            <p:cNvSpPr/>
            <p:nvPr/>
          </p:nvSpPr>
          <p:spPr>
            <a:xfrm>
              <a:off x="4734000" y="2671560"/>
              <a:ext cx="410544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직사각형 23"/>
            <p:cNvSpPr/>
            <p:nvPr/>
          </p:nvSpPr>
          <p:spPr>
            <a:xfrm>
              <a:off x="4710240" y="3214440"/>
              <a:ext cx="4362480" cy="31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 성공했던 전략에 집착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머지 문제를 새로운 관점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지 못하는 상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신태세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에 사용했던 방식으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려는 성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고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순된 증거에도 불구하고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을 고집하는 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확증편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평소 신념이나 아이디어에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치하는 정보만 탐색하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TextBox 149"/>
            <p:cNvSpPr/>
            <p:nvPr/>
          </p:nvSpPr>
          <p:spPr>
            <a:xfrm>
              <a:off x="5315760" y="2742840"/>
              <a:ext cx="29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방해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8" name="그룹 27"/>
          <p:cNvGrpSpPr/>
          <p:nvPr/>
        </p:nvGrpSpPr>
        <p:grpSpPr>
          <a:xfrm>
            <a:off x="357120" y="2243160"/>
            <a:ext cx="4124520" cy="4186080"/>
            <a:chOff x="357120" y="2243160"/>
            <a:chExt cx="4124520" cy="4186080"/>
          </a:xfrm>
        </p:grpSpPr>
        <p:sp>
          <p:nvSpPr>
            <p:cNvPr id="1219" name="모서리가 둥근 직사각형 17"/>
            <p:cNvSpPr/>
            <p:nvPr/>
          </p:nvSpPr>
          <p:spPr>
            <a:xfrm>
              <a:off x="375840" y="2243160"/>
              <a:ext cx="4105800" cy="4186080"/>
            </a:xfrm>
            <a:custGeom>
              <a:avLst/>
              <a:gdLst>
                <a:gd name="textAreaLeft" fmla="*/ 81000 w 4105800"/>
                <a:gd name="textAreaRight" fmla="*/ 4024800 w 410580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2">
                  <a:moveTo>
                    <a:pt x="1458" y="0"/>
                  </a:moveTo>
                  <a:arcTo wR="1458" hR="1458" stAng="16200000" swAng="-5400000"/>
                  <a:lnTo>
                    <a:pt x="0" y="20564"/>
                  </a:lnTo>
                  <a:arcTo wR="1458" hR="1458" stAng="10800000" swAng="-5400000"/>
                  <a:lnTo>
                    <a:pt x="20142" y="22022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직사각형 18"/>
            <p:cNvSpPr/>
            <p:nvPr/>
          </p:nvSpPr>
          <p:spPr>
            <a:xfrm>
              <a:off x="375840" y="2671560"/>
              <a:ext cx="410580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직사각형 19"/>
            <p:cNvSpPr/>
            <p:nvPr/>
          </p:nvSpPr>
          <p:spPr>
            <a:xfrm>
              <a:off x="357120" y="3510000"/>
              <a:ext cx="4124520" cy="22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1199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통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는데 필요한 정보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식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비교하여 관계를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결합하는 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잠시 제쳐 두고 다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활동을 하면서 잠재의식수준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모색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TextBox 149"/>
            <p:cNvSpPr/>
            <p:nvPr/>
          </p:nvSpPr>
          <p:spPr>
            <a:xfrm>
              <a:off x="958680" y="2742840"/>
              <a:ext cx="294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촉진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7"/>
          <p:cNvGrpSpPr/>
          <p:nvPr/>
        </p:nvGrpSpPr>
        <p:grpSpPr>
          <a:xfrm>
            <a:off x="2889360" y="1928880"/>
            <a:ext cx="3483000" cy="552240"/>
            <a:chOff x="2889360" y="1928880"/>
            <a:chExt cx="3483000" cy="552240"/>
          </a:xfrm>
        </p:grpSpPr>
        <p:sp>
          <p:nvSpPr>
            <p:cNvPr id="1224" name="AutoShape 65"/>
            <p:cNvSpPr/>
            <p:nvPr/>
          </p:nvSpPr>
          <p:spPr>
            <a:xfrm>
              <a:off x="2889360" y="1928880"/>
              <a:ext cx="3483000" cy="552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9390a"/>
                </a:gs>
              </a:gsLst>
              <a:lin ang="5400000"/>
            </a:gradFill>
            <a:ln w="6480">
              <a:solidFill>
                <a:srgbClr val="6939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5" name="AutoShape 66"/>
            <p:cNvGrpSpPr/>
            <p:nvPr/>
          </p:nvGrpSpPr>
          <p:grpSpPr>
            <a:xfrm>
              <a:off x="3072240" y="1962720"/>
              <a:ext cx="3121200" cy="481680"/>
              <a:chOff x="3072240" y="1962720"/>
              <a:chExt cx="3121200" cy="481680"/>
            </a:xfrm>
          </p:grpSpPr>
          <p:pic>
            <p:nvPicPr>
              <p:cNvPr id="1226" name="AutoShape 66" descr=""/>
              <p:cNvPicPr/>
              <p:nvPr/>
            </p:nvPicPr>
            <p:blipFill>
              <a:blip r:embed="rId2"/>
              <a:stretch/>
            </p:blipFill>
            <p:spPr>
              <a:xfrm>
                <a:off x="3072240" y="1962720"/>
                <a:ext cx="3121200" cy="48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7" name=""/>
              <p:cNvSpPr/>
              <p:nvPr/>
            </p:nvSpPr>
            <p:spPr>
              <a:xfrm>
                <a:off x="3143880" y="2039760"/>
                <a:ext cx="297360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28" name="TextBox 16" descr=""/>
            <p:cNvPicPr/>
            <p:nvPr/>
          </p:nvPicPr>
          <p:blipFill>
            <a:blip r:embed="rId3"/>
            <a:stretch/>
          </p:blipFill>
          <p:spPr>
            <a:xfrm>
              <a:off x="3108960" y="1981080"/>
              <a:ext cx="3035880" cy="39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9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3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31" name="직사각형 13"/>
              <p:cNvSpPr/>
              <p:nvPr/>
            </p:nvSpPr>
            <p:spPr>
              <a:xfrm>
                <a:off x="173376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에 영향을 주는 요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36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3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8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1" name="그룹 37"/>
          <p:cNvGrpSpPr/>
          <p:nvPr/>
        </p:nvGrpSpPr>
        <p:grpSpPr>
          <a:xfrm>
            <a:off x="357120" y="3429000"/>
            <a:ext cx="8501040" cy="3197160"/>
            <a:chOff x="357120" y="3429000"/>
            <a:chExt cx="8501040" cy="3197160"/>
          </a:xfrm>
        </p:grpSpPr>
        <p:grpSp>
          <p:nvGrpSpPr>
            <p:cNvPr id="782" name="그룹 91"/>
            <p:cNvGrpSpPr/>
            <p:nvPr/>
          </p:nvGrpSpPr>
          <p:grpSpPr>
            <a:xfrm>
              <a:off x="357120" y="3429000"/>
              <a:ext cx="8501040" cy="3197160"/>
              <a:chOff x="357120" y="3429000"/>
              <a:chExt cx="8501040" cy="3197160"/>
            </a:xfrm>
          </p:grpSpPr>
          <p:pic>
            <p:nvPicPr>
              <p:cNvPr id="783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357120" y="3429000"/>
                <a:ext cx="8501040" cy="3197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784" name="직사각형 26"/>
              <p:cNvSpPr/>
              <p:nvPr/>
            </p:nvSpPr>
            <p:spPr>
              <a:xfrm>
                <a:off x="1357200" y="3608280"/>
                <a:ext cx="7500960" cy="34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5" name="그룹 91"/>
            <p:cNvGrpSpPr/>
            <p:nvPr/>
          </p:nvGrpSpPr>
          <p:grpSpPr>
            <a:xfrm>
              <a:off x="859320" y="3746160"/>
              <a:ext cx="2507760" cy="551160"/>
              <a:chOff x="859320" y="3746160"/>
              <a:chExt cx="2507760" cy="551160"/>
            </a:xfrm>
          </p:grpSpPr>
          <p:grpSp>
            <p:nvGrpSpPr>
              <p:cNvPr id="786" name="그룹 34"/>
              <p:cNvGrpSpPr/>
              <p:nvPr/>
            </p:nvGrpSpPr>
            <p:grpSpPr>
              <a:xfrm>
                <a:off x="859320" y="3873240"/>
                <a:ext cx="354960" cy="337320"/>
                <a:chOff x="859320" y="3873240"/>
                <a:chExt cx="354960" cy="337320"/>
              </a:xfrm>
            </p:grpSpPr>
            <p:pic>
              <p:nvPicPr>
                <p:cNvPr id="787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59320" y="3906720"/>
                  <a:ext cx="354960" cy="2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8" name="TextBox 36"/>
                <p:cNvSpPr/>
                <p:nvPr/>
              </p:nvSpPr>
              <p:spPr>
                <a:xfrm>
                  <a:off x="859320" y="3873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9" name="직사각형 22"/>
              <p:cNvSpPr/>
              <p:nvPr/>
            </p:nvSpPr>
            <p:spPr>
              <a:xfrm>
                <a:off x="1618200" y="3746160"/>
                <a:ext cx="17488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적 전이와 부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0" name="그룹 142"/>
          <p:cNvGrpSpPr/>
          <p:nvPr/>
        </p:nvGrpSpPr>
        <p:grpSpPr>
          <a:xfrm>
            <a:off x="993960" y="4357800"/>
            <a:ext cx="7183800" cy="916920"/>
            <a:chOff x="993960" y="4357800"/>
            <a:chExt cx="7183800" cy="916920"/>
          </a:xfrm>
        </p:grpSpPr>
        <p:grpSp>
          <p:nvGrpSpPr>
            <p:cNvPr id="791" name="그룹 97"/>
            <p:cNvGrpSpPr/>
            <p:nvPr/>
          </p:nvGrpSpPr>
          <p:grpSpPr>
            <a:xfrm>
              <a:off x="993960" y="4357800"/>
              <a:ext cx="295200" cy="337320"/>
              <a:chOff x="993960" y="4357800"/>
              <a:chExt cx="295200" cy="337320"/>
            </a:xfrm>
          </p:grpSpPr>
          <p:pic>
            <p:nvPicPr>
              <p:cNvPr id="792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1000080" y="4442400"/>
                <a:ext cx="284040" cy="22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3" name="TextBox 146"/>
              <p:cNvSpPr/>
              <p:nvPr/>
            </p:nvSpPr>
            <p:spPr>
              <a:xfrm>
                <a:off x="993960" y="435780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4" name="직사각형 34"/>
            <p:cNvSpPr/>
            <p:nvPr/>
          </p:nvSpPr>
          <p:spPr>
            <a:xfrm>
              <a:off x="1857960" y="4357800"/>
              <a:ext cx="6319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적 전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ositive transfer) 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선행학습이 후속학습을 촉진하는 현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교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5" name="TextBox 12" descr=""/>
          <p:cNvPicPr/>
          <p:nvPr/>
        </p:nvPicPr>
        <p:blipFill>
          <a:blip r:embed="rId4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796" name="그룹 35"/>
          <p:cNvGrpSpPr/>
          <p:nvPr/>
        </p:nvGrpSpPr>
        <p:grpSpPr>
          <a:xfrm>
            <a:off x="642960" y="3070080"/>
            <a:ext cx="8429760" cy="430200"/>
            <a:chOff x="642960" y="3070080"/>
            <a:chExt cx="8429760" cy="430200"/>
          </a:xfrm>
        </p:grpSpPr>
        <p:grpSp>
          <p:nvGrpSpPr>
            <p:cNvPr id="797" name="그룹 48"/>
            <p:cNvGrpSpPr/>
            <p:nvPr/>
          </p:nvGrpSpPr>
          <p:grpSpPr>
            <a:xfrm>
              <a:off x="642960" y="3098520"/>
              <a:ext cx="8429760" cy="401760"/>
              <a:chOff x="642960" y="3098520"/>
              <a:chExt cx="8429760" cy="401760"/>
            </a:xfrm>
          </p:grpSpPr>
          <p:sp>
            <p:nvSpPr>
              <p:cNvPr id="798" name="직사각형 13"/>
              <p:cNvSpPr/>
              <p:nvPr/>
            </p:nvSpPr>
            <p:spPr>
              <a:xfrm>
                <a:off x="1295640" y="30985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직선 연결선 18"/>
              <p:cNvSpPr/>
              <p:nvPr/>
            </p:nvSpPr>
            <p:spPr>
              <a:xfrm>
                <a:off x="642960" y="3498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0" name="그룹 49"/>
            <p:cNvGrpSpPr/>
            <p:nvPr/>
          </p:nvGrpSpPr>
          <p:grpSpPr>
            <a:xfrm>
              <a:off x="671400" y="3107880"/>
              <a:ext cx="328320" cy="319320"/>
              <a:chOff x="671400" y="3107880"/>
              <a:chExt cx="328320" cy="319320"/>
            </a:xfrm>
          </p:grpSpPr>
          <p:sp>
            <p:nvSpPr>
              <p:cNvPr id="801" name="AutoShape 4"/>
              <p:cNvSpPr/>
              <p:nvPr/>
            </p:nvSpPr>
            <p:spPr>
              <a:xfrm>
                <a:off x="671400" y="3107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2" name="Freeform 5"/>
              <p:cNvGrpSpPr/>
              <p:nvPr/>
            </p:nvGrpSpPr>
            <p:grpSpPr>
              <a:xfrm>
                <a:off x="688680" y="3120480"/>
                <a:ext cx="170640" cy="171000"/>
                <a:chOff x="688680" y="3120480"/>
                <a:chExt cx="170640" cy="171000"/>
              </a:xfrm>
            </p:grpSpPr>
            <p:pic>
              <p:nvPicPr>
                <p:cNvPr id="803" name="Freeform 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8680" y="312048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4" name=""/>
                <p:cNvSpPr/>
                <p:nvPr/>
              </p:nvSpPr>
              <p:spPr>
                <a:xfrm>
                  <a:off x="691920" y="3128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05" name="TextBox 88"/>
            <p:cNvSpPr/>
            <p:nvPr/>
          </p:nvSpPr>
          <p:spPr>
            <a:xfrm>
              <a:off x="678600" y="30700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그룹 90"/>
          <p:cNvGrpSpPr/>
          <p:nvPr/>
        </p:nvGrpSpPr>
        <p:grpSpPr>
          <a:xfrm>
            <a:off x="996840" y="5146560"/>
            <a:ext cx="8147160" cy="639720"/>
            <a:chOff x="996840" y="5146560"/>
            <a:chExt cx="8147160" cy="639720"/>
          </a:xfrm>
        </p:grpSpPr>
        <p:grpSp>
          <p:nvGrpSpPr>
            <p:cNvPr id="807" name="그룹 142"/>
            <p:cNvGrpSpPr/>
            <p:nvPr/>
          </p:nvGrpSpPr>
          <p:grpSpPr>
            <a:xfrm>
              <a:off x="996840" y="5146560"/>
              <a:ext cx="8147160" cy="505440"/>
              <a:chOff x="996840" y="5146560"/>
              <a:chExt cx="8147160" cy="505440"/>
            </a:xfrm>
          </p:grpSpPr>
          <p:grpSp>
            <p:nvGrpSpPr>
              <p:cNvPr id="808" name="그룹 97"/>
              <p:cNvGrpSpPr/>
              <p:nvPr/>
            </p:nvGrpSpPr>
            <p:grpSpPr>
              <a:xfrm>
                <a:off x="996840" y="5175720"/>
                <a:ext cx="305640" cy="337320"/>
                <a:chOff x="996840" y="5175720"/>
                <a:chExt cx="305640" cy="337320"/>
              </a:xfrm>
            </p:grpSpPr>
            <p:pic>
              <p:nvPicPr>
                <p:cNvPr id="80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5228640"/>
                  <a:ext cx="28620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0" name="TextBox 146"/>
                <p:cNvSpPr/>
                <p:nvPr/>
              </p:nvSpPr>
              <p:spPr>
                <a:xfrm>
                  <a:off x="996840" y="5175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1" name="직사각형 45"/>
              <p:cNvSpPr/>
              <p:nvPr/>
            </p:nvSpPr>
            <p:spPr>
              <a:xfrm>
                <a:off x="1071360" y="5146560"/>
                <a:ext cx="80726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gative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을 방해하는 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적 고착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2" name="직사각형 42"/>
            <p:cNvSpPr/>
            <p:nvPr/>
          </p:nvSpPr>
          <p:spPr>
            <a:xfrm>
              <a:off x="1315800" y="5439600"/>
              <a:ext cx="750132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그룹 90"/>
          <p:cNvGrpSpPr/>
          <p:nvPr/>
        </p:nvGrpSpPr>
        <p:grpSpPr>
          <a:xfrm>
            <a:off x="1000080" y="5857920"/>
            <a:ext cx="7858080" cy="784080"/>
            <a:chOff x="1000080" y="5857920"/>
            <a:chExt cx="7858080" cy="784080"/>
          </a:xfrm>
        </p:grpSpPr>
        <p:grpSp>
          <p:nvGrpSpPr>
            <p:cNvPr id="814" name="그룹 142"/>
            <p:cNvGrpSpPr/>
            <p:nvPr/>
          </p:nvGrpSpPr>
          <p:grpSpPr>
            <a:xfrm>
              <a:off x="1000080" y="5857920"/>
              <a:ext cx="7786800" cy="505440"/>
              <a:chOff x="1000080" y="5857920"/>
              <a:chExt cx="7786800" cy="505440"/>
            </a:xfrm>
          </p:grpSpPr>
          <p:grpSp>
            <p:nvGrpSpPr>
              <p:cNvPr id="815" name="그룹 97"/>
              <p:cNvGrpSpPr/>
              <p:nvPr/>
            </p:nvGrpSpPr>
            <p:grpSpPr>
              <a:xfrm>
                <a:off x="1000080" y="5904360"/>
                <a:ext cx="286920" cy="337320"/>
                <a:chOff x="1000080" y="5904360"/>
                <a:chExt cx="286920" cy="337320"/>
              </a:xfrm>
            </p:grpSpPr>
            <p:pic>
              <p:nvPicPr>
                <p:cNvPr id="81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5960880"/>
                  <a:ext cx="286920" cy="258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7" name="TextBox 146"/>
                <p:cNvSpPr/>
                <p:nvPr/>
              </p:nvSpPr>
              <p:spPr>
                <a:xfrm>
                  <a:off x="1002240" y="590436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8" name="직사각형 55"/>
              <p:cNvSpPr/>
              <p:nvPr/>
            </p:nvSpPr>
            <p:spPr>
              <a:xfrm>
                <a:off x="1071360" y="5857920"/>
                <a:ext cx="7715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zero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아무런 영향을 미치지 않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52"/>
            <p:cNvSpPr/>
            <p:nvPr/>
          </p:nvSpPr>
          <p:spPr>
            <a:xfrm>
              <a:off x="1317600" y="6217200"/>
              <a:ext cx="754056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35"/>
          <p:cNvGrpSpPr/>
          <p:nvPr/>
        </p:nvGrpSpPr>
        <p:grpSpPr>
          <a:xfrm>
            <a:off x="642960" y="1214280"/>
            <a:ext cx="8429760" cy="430200"/>
            <a:chOff x="642960" y="1214280"/>
            <a:chExt cx="8429760" cy="430200"/>
          </a:xfrm>
        </p:grpSpPr>
        <p:grpSp>
          <p:nvGrpSpPr>
            <p:cNvPr id="821" name="그룹 48"/>
            <p:cNvGrpSpPr/>
            <p:nvPr/>
          </p:nvGrpSpPr>
          <p:grpSpPr>
            <a:xfrm>
              <a:off x="642960" y="1242720"/>
              <a:ext cx="8429760" cy="401760"/>
              <a:chOff x="642960" y="1242720"/>
              <a:chExt cx="8429760" cy="401760"/>
            </a:xfrm>
          </p:grpSpPr>
          <p:sp>
            <p:nvSpPr>
              <p:cNvPr id="822" name="직사각형 13"/>
              <p:cNvSpPr/>
              <p:nvPr/>
            </p:nvSpPr>
            <p:spPr>
              <a:xfrm>
                <a:off x="1295640" y="12427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직선 연결선 18"/>
              <p:cNvSpPr/>
              <p:nvPr/>
            </p:nvSpPr>
            <p:spPr>
              <a:xfrm>
                <a:off x="642960" y="16430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4" name="그룹 49"/>
            <p:cNvGrpSpPr/>
            <p:nvPr/>
          </p:nvGrpSpPr>
          <p:grpSpPr>
            <a:xfrm>
              <a:off x="671400" y="1252080"/>
              <a:ext cx="328320" cy="319320"/>
              <a:chOff x="671400" y="1252080"/>
              <a:chExt cx="328320" cy="319320"/>
            </a:xfrm>
          </p:grpSpPr>
          <p:sp>
            <p:nvSpPr>
              <p:cNvPr id="825" name="AutoShape 4"/>
              <p:cNvSpPr/>
              <p:nvPr/>
            </p:nvSpPr>
            <p:spPr>
              <a:xfrm>
                <a:off x="671400" y="12520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6" name="Freeform 5"/>
              <p:cNvGrpSpPr/>
              <p:nvPr/>
            </p:nvGrpSpPr>
            <p:grpSpPr>
              <a:xfrm>
                <a:off x="688680" y="1267200"/>
                <a:ext cx="170640" cy="171000"/>
                <a:chOff x="688680" y="1267200"/>
                <a:chExt cx="170640" cy="171000"/>
              </a:xfrm>
            </p:grpSpPr>
            <p:pic>
              <p:nvPicPr>
                <p:cNvPr id="82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2672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8" name=""/>
                <p:cNvSpPr/>
                <p:nvPr/>
              </p:nvSpPr>
              <p:spPr>
                <a:xfrm>
                  <a:off x="691920" y="12722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9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0" name="Picture 5" descr="233"/>
          <p:cNvPicPr/>
          <p:nvPr/>
        </p:nvPicPr>
        <p:blipFill>
          <a:blip r:embed="rId9"/>
          <a:srcRect l="2544" t="0" r="24313" b="0"/>
          <a:stretch/>
        </p:blipFill>
        <p:spPr>
          <a:xfrm>
            <a:off x="714240" y="1857240"/>
            <a:ext cx="8072640" cy="10004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31" name="직사각형 63"/>
          <p:cNvSpPr/>
          <p:nvPr/>
        </p:nvSpPr>
        <p:spPr>
          <a:xfrm>
            <a:off x="785880" y="178596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장면에서 학습한 지식 및 기술이 새로운 장면의 학습이나 행동에 영향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치는 현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TextBox 12" descr=""/>
          <p:cNvPicPr/>
          <p:nvPr/>
        </p:nvPicPr>
        <p:blipFill>
          <a:blip r:embed="rId1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3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35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4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4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그룹 37"/>
          <p:cNvGrpSpPr/>
          <p:nvPr/>
        </p:nvGrpSpPr>
        <p:grpSpPr>
          <a:xfrm>
            <a:off x="285840" y="1928880"/>
            <a:ext cx="8501040" cy="4071960"/>
            <a:chOff x="285840" y="1928880"/>
            <a:chExt cx="8501040" cy="4071960"/>
          </a:xfrm>
        </p:grpSpPr>
        <p:grpSp>
          <p:nvGrpSpPr>
            <p:cNvPr id="844" name="그룹 91"/>
            <p:cNvGrpSpPr/>
            <p:nvPr/>
          </p:nvGrpSpPr>
          <p:grpSpPr>
            <a:xfrm>
              <a:off x="285840" y="2143080"/>
              <a:ext cx="8501040" cy="3857760"/>
              <a:chOff x="285840" y="2143080"/>
              <a:chExt cx="8501040" cy="3857760"/>
            </a:xfrm>
          </p:grpSpPr>
          <p:pic>
            <p:nvPicPr>
              <p:cNvPr id="84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43080"/>
                <a:ext cx="8501040" cy="3857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46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91"/>
            <p:cNvGrpSpPr/>
            <p:nvPr/>
          </p:nvGrpSpPr>
          <p:grpSpPr>
            <a:xfrm>
              <a:off x="928440" y="1928880"/>
              <a:ext cx="2360880" cy="551160"/>
              <a:chOff x="928440" y="1928880"/>
              <a:chExt cx="2360880" cy="551160"/>
            </a:xfrm>
          </p:grpSpPr>
          <p:grpSp>
            <p:nvGrpSpPr>
              <p:cNvPr id="848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49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0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1" name="직사각형 19"/>
              <p:cNvSpPr/>
              <p:nvPr/>
            </p:nvSpPr>
            <p:spPr>
              <a:xfrm>
                <a:off x="1671480" y="192888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일반전이와 특수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2" name="그룹 90"/>
          <p:cNvGrpSpPr/>
          <p:nvPr/>
        </p:nvGrpSpPr>
        <p:grpSpPr>
          <a:xfrm>
            <a:off x="1152720" y="2676600"/>
            <a:ext cx="7823160" cy="1005120"/>
            <a:chOff x="1152720" y="2676600"/>
            <a:chExt cx="7823160" cy="1005120"/>
          </a:xfrm>
        </p:grpSpPr>
        <p:grpSp>
          <p:nvGrpSpPr>
            <p:cNvPr id="853" name="그룹 142"/>
            <p:cNvGrpSpPr/>
            <p:nvPr/>
          </p:nvGrpSpPr>
          <p:grpSpPr>
            <a:xfrm>
              <a:off x="1152720" y="2676600"/>
              <a:ext cx="2675520" cy="505440"/>
              <a:chOff x="1152720" y="2676600"/>
              <a:chExt cx="2675520" cy="505440"/>
            </a:xfrm>
          </p:grpSpPr>
          <p:grpSp>
            <p:nvGrpSpPr>
              <p:cNvPr id="854" name="그룹 97"/>
              <p:cNvGrpSpPr/>
              <p:nvPr/>
            </p:nvGrpSpPr>
            <p:grpSpPr>
              <a:xfrm>
                <a:off x="1152720" y="2741400"/>
                <a:ext cx="295200" cy="337320"/>
                <a:chOff x="1152720" y="2741400"/>
                <a:chExt cx="295200" cy="337320"/>
              </a:xfrm>
            </p:grpSpPr>
            <p:pic>
              <p:nvPicPr>
                <p:cNvPr id="855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8840" y="2791800"/>
                  <a:ext cx="28404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TextBox 146"/>
                <p:cNvSpPr/>
                <p:nvPr/>
              </p:nvSpPr>
              <p:spPr>
                <a:xfrm>
                  <a:off x="1152720" y="27414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7" name="직사각형 31"/>
              <p:cNvSpPr/>
              <p:nvPr/>
            </p:nvSpPr>
            <p:spPr>
              <a:xfrm>
                <a:off x="1378440" y="2676600"/>
                <a:ext cx="24498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gener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8" name="직선 연결선 26"/>
            <p:cNvSpPr/>
            <p:nvPr/>
          </p:nvSpPr>
          <p:spPr>
            <a:xfrm>
              <a:off x="4643640" y="2962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14"/>
            <p:cNvGrpSpPr/>
            <p:nvPr/>
          </p:nvGrpSpPr>
          <p:grpSpPr>
            <a:xfrm>
              <a:off x="1376280" y="3176280"/>
              <a:ext cx="7599600" cy="505440"/>
              <a:chOff x="1376280" y="3176280"/>
              <a:chExt cx="7599600" cy="505440"/>
            </a:xfrm>
          </p:grpSpPr>
          <p:sp>
            <p:nvSpPr>
              <p:cNvPr id="860" name="직사각형 28"/>
              <p:cNvSpPr/>
              <p:nvPr/>
            </p:nvSpPr>
            <p:spPr>
              <a:xfrm>
                <a:off x="1538640" y="3176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획득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을 완전히 새로운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1" name="타원 29"/>
              <p:cNvGrpSpPr/>
              <p:nvPr/>
            </p:nvGrpSpPr>
            <p:grpSpPr>
              <a:xfrm>
                <a:off x="1376280" y="3346560"/>
                <a:ext cx="223560" cy="231480"/>
                <a:chOff x="1376280" y="3346560"/>
                <a:chExt cx="223560" cy="231480"/>
              </a:xfrm>
            </p:grpSpPr>
            <p:pic>
              <p:nvPicPr>
                <p:cNvPr id="862" name="타원 29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6280" y="33465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3" name=""/>
                <p:cNvSpPr/>
                <p:nvPr/>
              </p:nvSpPr>
              <p:spPr>
                <a:xfrm rot="10800000">
                  <a:off x="1455480" y="3404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64" name="그룹 90"/>
          <p:cNvGrpSpPr/>
          <p:nvPr/>
        </p:nvGrpSpPr>
        <p:grpSpPr>
          <a:xfrm>
            <a:off x="1155600" y="4154400"/>
            <a:ext cx="7820280" cy="1438200"/>
            <a:chOff x="1155600" y="4154400"/>
            <a:chExt cx="7820280" cy="1438200"/>
          </a:xfrm>
        </p:grpSpPr>
        <p:grpSp>
          <p:nvGrpSpPr>
            <p:cNvPr id="865" name="그룹 142"/>
            <p:cNvGrpSpPr/>
            <p:nvPr/>
          </p:nvGrpSpPr>
          <p:grpSpPr>
            <a:xfrm>
              <a:off x="1155600" y="4154400"/>
              <a:ext cx="2670120" cy="505440"/>
              <a:chOff x="1155600" y="4154400"/>
              <a:chExt cx="2670120" cy="505440"/>
            </a:xfrm>
          </p:grpSpPr>
          <p:grpSp>
            <p:nvGrpSpPr>
              <p:cNvPr id="866" name="그룹 97"/>
              <p:cNvGrpSpPr/>
              <p:nvPr/>
            </p:nvGrpSpPr>
            <p:grpSpPr>
              <a:xfrm>
                <a:off x="1155600" y="4219200"/>
                <a:ext cx="305640" cy="337320"/>
                <a:chOff x="1155600" y="4219200"/>
                <a:chExt cx="305640" cy="337320"/>
              </a:xfrm>
            </p:grpSpPr>
            <p:pic>
              <p:nvPicPr>
                <p:cNvPr id="86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266720"/>
                  <a:ext cx="28620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8" name="TextBox 146"/>
                <p:cNvSpPr/>
                <p:nvPr/>
              </p:nvSpPr>
              <p:spPr>
                <a:xfrm>
                  <a:off x="1155600" y="4219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9" name="직사각형 41"/>
              <p:cNvSpPr/>
              <p:nvPr/>
            </p:nvSpPr>
            <p:spPr>
              <a:xfrm>
                <a:off x="1398600" y="4154400"/>
                <a:ext cx="2427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pecific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0" name="직선 연결선 36"/>
            <p:cNvSpPr/>
            <p:nvPr/>
          </p:nvSpPr>
          <p:spPr>
            <a:xfrm>
              <a:off x="4643640" y="4439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1" name="그룹 114"/>
            <p:cNvGrpSpPr/>
            <p:nvPr/>
          </p:nvGrpSpPr>
          <p:grpSpPr>
            <a:xfrm>
              <a:off x="1376280" y="4675680"/>
              <a:ext cx="7599600" cy="916920"/>
              <a:chOff x="1376280" y="4675680"/>
              <a:chExt cx="7599600" cy="916920"/>
            </a:xfrm>
          </p:grpSpPr>
          <p:sp>
            <p:nvSpPr>
              <p:cNvPr id="872" name="직사각형 38"/>
              <p:cNvSpPr/>
              <p:nvPr/>
            </p:nvSpPr>
            <p:spPr>
              <a:xfrm>
                <a:off x="1538640" y="467568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장면에서 학습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 등을 매우 유사한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어 학습이 불어 학습에 영향을 미치는 것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3" name="타원 39"/>
              <p:cNvGrpSpPr/>
              <p:nvPr/>
            </p:nvGrpSpPr>
            <p:grpSpPr>
              <a:xfrm>
                <a:off x="1376280" y="4858200"/>
                <a:ext cx="223560" cy="231480"/>
                <a:chOff x="1376280" y="4858200"/>
                <a:chExt cx="223560" cy="231480"/>
              </a:xfrm>
            </p:grpSpPr>
            <p:pic>
              <p:nvPicPr>
                <p:cNvPr id="874" name="타원 39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8582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5" name=""/>
                <p:cNvSpPr/>
                <p:nvPr/>
              </p:nvSpPr>
              <p:spPr>
                <a:xfrm rot="10800000">
                  <a:off x="1455480" y="4916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그룹 37"/>
          <p:cNvGrpSpPr/>
          <p:nvPr/>
        </p:nvGrpSpPr>
        <p:grpSpPr>
          <a:xfrm>
            <a:off x="285840" y="1928880"/>
            <a:ext cx="8501040" cy="4286160"/>
            <a:chOff x="285840" y="1928880"/>
            <a:chExt cx="8501040" cy="4286160"/>
          </a:xfrm>
        </p:grpSpPr>
        <p:grpSp>
          <p:nvGrpSpPr>
            <p:cNvPr id="877" name="그룹 91"/>
            <p:cNvGrpSpPr/>
            <p:nvPr/>
          </p:nvGrpSpPr>
          <p:grpSpPr>
            <a:xfrm>
              <a:off x="285840" y="2143080"/>
              <a:ext cx="8501040" cy="4071960"/>
              <a:chOff x="285840" y="2143080"/>
              <a:chExt cx="8501040" cy="4071960"/>
            </a:xfrm>
          </p:grpSpPr>
          <p:pic>
            <p:nvPicPr>
              <p:cNvPr id="87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071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7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91"/>
            <p:cNvGrpSpPr/>
            <p:nvPr/>
          </p:nvGrpSpPr>
          <p:grpSpPr>
            <a:xfrm>
              <a:off x="928440" y="1928880"/>
              <a:ext cx="2937960" cy="551160"/>
              <a:chOff x="928440" y="1928880"/>
              <a:chExt cx="2937960" cy="551160"/>
            </a:xfrm>
          </p:grpSpPr>
          <p:grpSp>
            <p:nvGrpSpPr>
              <p:cNvPr id="881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82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3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4" name="직사각형 19"/>
              <p:cNvSpPr/>
              <p:nvPr/>
            </p:nvSpPr>
            <p:spPr>
              <a:xfrm>
                <a:off x="1812600" y="1928880"/>
                <a:ext cx="2053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수평적 전이와 수직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5" name="그룹 90"/>
          <p:cNvGrpSpPr/>
          <p:nvPr/>
        </p:nvGrpSpPr>
        <p:grpSpPr>
          <a:xfrm>
            <a:off x="1152720" y="2714760"/>
            <a:ext cx="7823160" cy="1309320"/>
            <a:chOff x="1152720" y="2714760"/>
            <a:chExt cx="7823160" cy="1309320"/>
          </a:xfrm>
        </p:grpSpPr>
        <p:grpSp>
          <p:nvGrpSpPr>
            <p:cNvPr id="886" name="그룹 142"/>
            <p:cNvGrpSpPr/>
            <p:nvPr/>
          </p:nvGrpSpPr>
          <p:grpSpPr>
            <a:xfrm>
              <a:off x="1152720" y="2714760"/>
              <a:ext cx="3167640" cy="505440"/>
              <a:chOff x="1152720" y="2714760"/>
              <a:chExt cx="3167640" cy="505440"/>
            </a:xfrm>
          </p:grpSpPr>
          <p:grpSp>
            <p:nvGrpSpPr>
              <p:cNvPr id="887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888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9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0" name="직사각형 32"/>
              <p:cNvSpPr/>
              <p:nvPr/>
            </p:nvSpPr>
            <p:spPr>
              <a:xfrm>
                <a:off x="1437840" y="2714760"/>
                <a:ext cx="2882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orizont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1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2" name="그룹 114"/>
            <p:cNvGrpSpPr/>
            <p:nvPr/>
          </p:nvGrpSpPr>
          <p:grpSpPr>
            <a:xfrm>
              <a:off x="1376280" y="3107160"/>
              <a:ext cx="7599600" cy="916920"/>
              <a:chOff x="1376280" y="3107160"/>
              <a:chExt cx="7599600" cy="916920"/>
            </a:xfrm>
          </p:grpSpPr>
          <p:sp>
            <p:nvSpPr>
              <p:cNvPr id="893" name="직사각형 28"/>
              <p:cNvSpPr/>
              <p:nvPr/>
            </p:nvSpPr>
            <p:spPr>
              <a:xfrm>
                <a:off x="1538640" y="310716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과 후속학습의 수준이 비슷한 경우에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사시간에 학습한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1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운동이 국어시간의 독립선언문 학습에 영향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4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895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6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897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0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5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그룹 90"/>
          <p:cNvGrpSpPr/>
          <p:nvPr/>
        </p:nvGrpSpPr>
        <p:grpSpPr>
          <a:xfrm>
            <a:off x="1155600" y="4214880"/>
            <a:ext cx="7820280" cy="2131920"/>
            <a:chOff x="1155600" y="4214880"/>
            <a:chExt cx="7820280" cy="2131920"/>
          </a:xfrm>
        </p:grpSpPr>
        <p:grpSp>
          <p:nvGrpSpPr>
            <p:cNvPr id="909" name="그룹 142"/>
            <p:cNvGrpSpPr/>
            <p:nvPr/>
          </p:nvGrpSpPr>
          <p:grpSpPr>
            <a:xfrm>
              <a:off x="1155600" y="4214880"/>
              <a:ext cx="2903400" cy="505440"/>
              <a:chOff x="1155600" y="4214880"/>
              <a:chExt cx="2903400" cy="505440"/>
            </a:xfrm>
          </p:grpSpPr>
          <p:grpSp>
            <p:nvGrpSpPr>
              <p:cNvPr id="910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911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3" name="직사각형 42"/>
              <p:cNvSpPr/>
              <p:nvPr/>
            </p:nvSpPr>
            <p:spPr>
              <a:xfrm>
                <a:off x="1450800" y="4214880"/>
                <a:ext cx="2608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직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vertic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4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5" name="그룹 114"/>
            <p:cNvGrpSpPr/>
            <p:nvPr/>
          </p:nvGrpSpPr>
          <p:grpSpPr>
            <a:xfrm>
              <a:off x="1376280" y="4606920"/>
              <a:ext cx="7599600" cy="1739880"/>
              <a:chOff x="1376280" y="4606920"/>
              <a:chExt cx="7599600" cy="1739880"/>
            </a:xfrm>
          </p:grpSpPr>
          <p:sp>
            <p:nvSpPr>
              <p:cNvPr id="916" name="직사각형 39"/>
              <p:cNvSpPr/>
              <p:nvPr/>
            </p:nvSpPr>
            <p:spPr>
              <a:xfrm>
                <a:off x="1538640" y="460692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관계가 분명한 학습과제 사이에서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 관계가 분명한 학습과제에서 생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구단 학습이 곱셈과 나눗셈에 영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7" name="타원 40"/>
              <p:cNvGrpSpPr/>
              <p:nvPr/>
            </p:nvGrpSpPr>
            <p:grpSpPr>
              <a:xfrm>
                <a:off x="1376280" y="4778640"/>
                <a:ext cx="223560" cy="231480"/>
                <a:chOff x="1376280" y="4778640"/>
                <a:chExt cx="223560" cy="231480"/>
              </a:xfrm>
            </p:grpSpPr>
            <p:pic>
              <p:nvPicPr>
                <p:cNvPr id="918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86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9" name=""/>
                <p:cNvSpPr/>
                <p:nvPr/>
              </p:nvSpPr>
              <p:spPr>
                <a:xfrm rot="10800000">
                  <a:off x="1455480" y="4835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21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22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23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25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926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27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8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9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근접전이와 원격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0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1" name="그룹 90"/>
          <p:cNvGrpSpPr/>
          <p:nvPr/>
        </p:nvGrpSpPr>
        <p:grpSpPr>
          <a:xfrm>
            <a:off x="1152360" y="2714760"/>
            <a:ext cx="7823520" cy="898200"/>
            <a:chOff x="1152360" y="2714760"/>
            <a:chExt cx="7823520" cy="898200"/>
          </a:xfrm>
        </p:grpSpPr>
        <p:grpSp>
          <p:nvGrpSpPr>
            <p:cNvPr id="932" name="그룹 142"/>
            <p:cNvGrpSpPr/>
            <p:nvPr/>
          </p:nvGrpSpPr>
          <p:grpSpPr>
            <a:xfrm>
              <a:off x="1152360" y="2714760"/>
              <a:ext cx="2397240" cy="505440"/>
              <a:chOff x="1152360" y="2714760"/>
              <a:chExt cx="2397240" cy="505440"/>
            </a:xfrm>
          </p:grpSpPr>
          <p:grpSp>
            <p:nvGrpSpPr>
              <p:cNvPr id="933" name="그룹 97"/>
              <p:cNvGrpSpPr/>
              <p:nvPr/>
            </p:nvGrpSpPr>
            <p:grpSpPr>
              <a:xfrm>
                <a:off x="1152360" y="2779560"/>
                <a:ext cx="295200" cy="337320"/>
                <a:chOff x="1152360" y="2779560"/>
                <a:chExt cx="295200" cy="337320"/>
              </a:xfrm>
            </p:grpSpPr>
            <p:pic>
              <p:nvPicPr>
                <p:cNvPr id="93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36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5" name="TextBox 146"/>
                <p:cNvSpPr/>
                <p:nvPr/>
              </p:nvSpPr>
              <p:spPr>
                <a:xfrm>
                  <a:off x="115236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6" name="직사각형 32"/>
              <p:cNvSpPr/>
              <p:nvPr/>
            </p:nvSpPr>
            <p:spPr>
              <a:xfrm>
                <a:off x="1391040" y="2714760"/>
                <a:ext cx="21585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근접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7" name="직선 연결선 26"/>
            <p:cNvSpPr/>
            <p:nvPr/>
          </p:nvSpPr>
          <p:spPr>
            <a:xfrm>
              <a:off x="4643640" y="3000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8" name="그룹 114"/>
            <p:cNvGrpSpPr/>
            <p:nvPr/>
          </p:nvGrpSpPr>
          <p:grpSpPr>
            <a:xfrm>
              <a:off x="1376280" y="3107520"/>
              <a:ext cx="7599600" cy="505440"/>
              <a:chOff x="1376280" y="3107520"/>
              <a:chExt cx="7599600" cy="505440"/>
            </a:xfrm>
          </p:grpSpPr>
          <p:sp>
            <p:nvSpPr>
              <p:cNvPr id="939" name="직사각형 28"/>
              <p:cNvSpPr/>
              <p:nvPr/>
            </p:nvSpPr>
            <p:spPr>
              <a:xfrm>
                <a:off x="1538640" y="310752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피상적인 특성은 물론 기저원리가 비슷한 장면 사이에 일어나는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0" name="타원 29"/>
              <p:cNvGrpSpPr/>
              <p:nvPr/>
            </p:nvGrpSpPr>
            <p:grpSpPr>
              <a:xfrm>
                <a:off x="1376280" y="3279960"/>
                <a:ext cx="223560" cy="231840"/>
                <a:chOff x="1376280" y="3279960"/>
                <a:chExt cx="223560" cy="231840"/>
              </a:xfrm>
            </p:grpSpPr>
            <p:pic>
              <p:nvPicPr>
                <p:cNvPr id="941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9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2" name=""/>
                <p:cNvSpPr/>
                <p:nvPr/>
              </p:nvSpPr>
              <p:spPr>
                <a:xfrm rot="10800000">
                  <a:off x="1455480" y="3336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43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6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그룹 90"/>
          <p:cNvGrpSpPr/>
          <p:nvPr/>
        </p:nvGrpSpPr>
        <p:grpSpPr>
          <a:xfrm>
            <a:off x="1155240" y="4214880"/>
            <a:ext cx="7820640" cy="897840"/>
            <a:chOff x="1155240" y="4214880"/>
            <a:chExt cx="7820640" cy="897840"/>
          </a:xfrm>
        </p:grpSpPr>
        <p:grpSp>
          <p:nvGrpSpPr>
            <p:cNvPr id="955" name="그룹 142"/>
            <p:cNvGrpSpPr/>
            <p:nvPr/>
          </p:nvGrpSpPr>
          <p:grpSpPr>
            <a:xfrm>
              <a:off x="1155240" y="4214880"/>
              <a:ext cx="2234520" cy="505440"/>
              <a:chOff x="1155240" y="4214880"/>
              <a:chExt cx="2234520" cy="505440"/>
            </a:xfrm>
          </p:grpSpPr>
          <p:grpSp>
            <p:nvGrpSpPr>
              <p:cNvPr id="956" name="그룹 97"/>
              <p:cNvGrpSpPr/>
              <p:nvPr/>
            </p:nvGrpSpPr>
            <p:grpSpPr>
              <a:xfrm>
                <a:off x="1155240" y="4279680"/>
                <a:ext cx="305640" cy="337320"/>
                <a:chOff x="1155240" y="4279680"/>
                <a:chExt cx="305640" cy="337320"/>
              </a:xfrm>
            </p:grpSpPr>
            <p:pic>
              <p:nvPicPr>
                <p:cNvPr id="95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58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8" name="TextBox 146"/>
                <p:cNvSpPr/>
                <p:nvPr/>
              </p:nvSpPr>
              <p:spPr>
                <a:xfrm>
                  <a:off x="115524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9" name="직사각형 42"/>
              <p:cNvSpPr/>
              <p:nvPr/>
            </p:nvSpPr>
            <p:spPr>
              <a:xfrm>
                <a:off x="1400040" y="4214880"/>
                <a:ext cx="1989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격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0" name="직선 연결선 37"/>
            <p:cNvSpPr/>
            <p:nvPr/>
          </p:nvSpPr>
          <p:spPr>
            <a:xfrm>
              <a:off x="4643640" y="450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1" name="그룹 114"/>
            <p:cNvGrpSpPr/>
            <p:nvPr/>
          </p:nvGrpSpPr>
          <p:grpSpPr>
            <a:xfrm>
              <a:off x="1376280" y="4607280"/>
              <a:ext cx="7599600" cy="505440"/>
              <a:chOff x="1376280" y="4607280"/>
              <a:chExt cx="7599600" cy="505440"/>
            </a:xfrm>
          </p:grpSpPr>
          <p:sp>
            <p:nvSpPr>
              <p:cNvPr id="962" name="직사각형 39"/>
              <p:cNvSpPr/>
              <p:nvPr/>
            </p:nvSpPr>
            <p:spPr>
              <a:xfrm>
                <a:off x="1538640" y="4607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저원리는 동일하지만 피상적 특성이 다른 장면 사이에 일어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3" name="타원 40"/>
              <p:cNvGrpSpPr/>
              <p:nvPr/>
            </p:nvGrpSpPr>
            <p:grpSpPr>
              <a:xfrm>
                <a:off x="1376280" y="4779360"/>
                <a:ext cx="223560" cy="231840"/>
                <a:chOff x="1376280" y="4779360"/>
                <a:chExt cx="223560" cy="231840"/>
              </a:xfrm>
            </p:grpSpPr>
            <p:pic>
              <p:nvPicPr>
                <p:cNvPr id="964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3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5" name=""/>
                <p:cNvSpPr/>
                <p:nvPr/>
              </p:nvSpPr>
              <p:spPr>
                <a:xfrm rot="10800000">
                  <a:off x="1455480" y="4836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67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6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71" name="그룹 91"/>
              <p:cNvGrpSpPr/>
              <p:nvPr/>
            </p:nvGrpSpPr>
            <p:grpSpPr>
              <a:xfrm>
                <a:off x="928440" y="1928880"/>
                <a:ext cx="3142080" cy="551160"/>
                <a:chOff x="928440" y="1928880"/>
                <a:chExt cx="3142080" cy="551160"/>
              </a:xfrm>
            </p:grpSpPr>
            <p:grpSp>
              <p:nvGrpSpPr>
                <p:cNvPr id="97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73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7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75" name="직사각형 19"/>
                <p:cNvSpPr/>
                <p:nvPr/>
              </p:nvSpPr>
              <p:spPr>
                <a:xfrm>
                  <a:off x="1864440" y="1928880"/>
                  <a:ext cx="22060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식적 전이와 무의식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6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7" name="그룹 90"/>
          <p:cNvGrpSpPr/>
          <p:nvPr/>
        </p:nvGrpSpPr>
        <p:grpSpPr>
          <a:xfrm>
            <a:off x="1152720" y="2714760"/>
            <a:ext cx="7823160" cy="1171440"/>
            <a:chOff x="1152720" y="2714760"/>
            <a:chExt cx="7823160" cy="1171440"/>
          </a:xfrm>
        </p:grpSpPr>
        <p:grpSp>
          <p:nvGrpSpPr>
            <p:cNvPr id="978" name="그룹 142"/>
            <p:cNvGrpSpPr/>
            <p:nvPr/>
          </p:nvGrpSpPr>
          <p:grpSpPr>
            <a:xfrm>
              <a:off x="1152720" y="2714760"/>
              <a:ext cx="3146040" cy="505440"/>
              <a:chOff x="1152720" y="2714760"/>
              <a:chExt cx="3146040" cy="505440"/>
            </a:xfrm>
          </p:grpSpPr>
          <p:grpSp>
            <p:nvGrpSpPr>
              <p:cNvPr id="979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98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520"/>
                  <a:ext cx="2840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1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2" name="직사각형 32"/>
              <p:cNvSpPr/>
              <p:nvPr/>
            </p:nvSpPr>
            <p:spPr>
              <a:xfrm>
                <a:off x="1443600" y="2714760"/>
                <a:ext cx="285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igh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3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4" name="그룹 114"/>
            <p:cNvGrpSpPr/>
            <p:nvPr/>
          </p:nvGrpSpPr>
          <p:grpSpPr>
            <a:xfrm>
              <a:off x="1376280" y="3106440"/>
              <a:ext cx="7599600" cy="779760"/>
              <a:chOff x="1376280" y="3106440"/>
              <a:chExt cx="7599600" cy="779760"/>
            </a:xfrm>
          </p:grpSpPr>
          <p:sp>
            <p:nvSpPr>
              <p:cNvPr id="985" name="직사각형 28"/>
              <p:cNvSpPr/>
              <p:nvPr/>
            </p:nvSpPr>
            <p:spPr>
              <a:xfrm>
                <a:off x="1538640" y="310644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학습한 것을 새로운 학습에 의식적이고 의도적으로 적용할 때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6" name="타원 29"/>
              <p:cNvGrpSpPr/>
              <p:nvPr/>
            </p:nvGrpSpPr>
            <p:grpSpPr>
              <a:xfrm>
                <a:off x="1376280" y="3279240"/>
                <a:ext cx="223560" cy="231480"/>
                <a:chOff x="1376280" y="3279240"/>
                <a:chExt cx="223560" cy="231480"/>
              </a:xfrm>
            </p:grpSpPr>
            <p:pic>
              <p:nvPicPr>
                <p:cNvPr id="987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8" name=""/>
                <p:cNvSpPr/>
                <p:nvPr/>
              </p:nvSpPr>
              <p:spPr>
                <a:xfrm rot="10800000">
                  <a:off x="1455480" y="3334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89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9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2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7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0" name="그룹 90"/>
          <p:cNvGrpSpPr/>
          <p:nvPr/>
        </p:nvGrpSpPr>
        <p:grpSpPr>
          <a:xfrm>
            <a:off x="1155600" y="4214880"/>
            <a:ext cx="7820280" cy="1172160"/>
            <a:chOff x="1155600" y="4214880"/>
            <a:chExt cx="7820280" cy="1172160"/>
          </a:xfrm>
        </p:grpSpPr>
        <p:grpSp>
          <p:nvGrpSpPr>
            <p:cNvPr id="1001" name="그룹 142"/>
            <p:cNvGrpSpPr/>
            <p:nvPr/>
          </p:nvGrpSpPr>
          <p:grpSpPr>
            <a:xfrm>
              <a:off x="1155600" y="4214880"/>
              <a:ext cx="3218040" cy="505440"/>
              <a:chOff x="1155600" y="4214880"/>
              <a:chExt cx="3218040" cy="505440"/>
            </a:xfrm>
          </p:grpSpPr>
          <p:grpSp>
            <p:nvGrpSpPr>
              <p:cNvPr id="1002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100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4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5" name="직사각형 42"/>
              <p:cNvSpPr/>
              <p:nvPr/>
            </p:nvSpPr>
            <p:spPr>
              <a:xfrm>
                <a:off x="1474200" y="4214880"/>
                <a:ext cx="2899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무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low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6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7" name="그룹 114"/>
            <p:cNvGrpSpPr/>
            <p:nvPr/>
          </p:nvGrpSpPr>
          <p:grpSpPr>
            <a:xfrm>
              <a:off x="1376280" y="4607280"/>
              <a:ext cx="7599600" cy="779760"/>
              <a:chOff x="1376280" y="4607280"/>
              <a:chExt cx="7599600" cy="779760"/>
            </a:xfrm>
          </p:grpSpPr>
          <p:sp>
            <p:nvSpPr>
              <p:cNvPr id="1008" name="직사각형 39"/>
              <p:cNvSpPr/>
              <p:nvPr/>
            </p:nvSpPr>
            <p:spPr>
              <a:xfrm>
                <a:off x="1538640" y="460728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매우 유사한 학습과제의 문제해결에 자동적으로 적용할 경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9" name="타원 40"/>
              <p:cNvGrpSpPr/>
              <p:nvPr/>
            </p:nvGrpSpPr>
            <p:grpSpPr>
              <a:xfrm>
                <a:off x="1376280" y="4779000"/>
                <a:ext cx="223560" cy="231480"/>
                <a:chOff x="1376280" y="4779000"/>
                <a:chExt cx="223560" cy="231480"/>
              </a:xfrm>
            </p:grpSpPr>
            <p:pic>
              <p:nvPicPr>
                <p:cNvPr id="1010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0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1" name=""/>
                <p:cNvSpPr/>
                <p:nvPr/>
              </p:nvSpPr>
              <p:spPr>
                <a:xfrm rot="10800000">
                  <a:off x="1455480" y="4835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그룹 37"/>
          <p:cNvGrpSpPr/>
          <p:nvPr/>
        </p:nvGrpSpPr>
        <p:grpSpPr>
          <a:xfrm>
            <a:off x="285840" y="1928880"/>
            <a:ext cx="8501040" cy="4500360"/>
            <a:chOff x="285840" y="1928880"/>
            <a:chExt cx="8501040" cy="4500360"/>
          </a:xfrm>
        </p:grpSpPr>
        <p:grpSp>
          <p:nvGrpSpPr>
            <p:cNvPr id="1013" name="그룹 91"/>
            <p:cNvGrpSpPr/>
            <p:nvPr/>
          </p:nvGrpSpPr>
          <p:grpSpPr>
            <a:xfrm>
              <a:off x="285840" y="2143080"/>
              <a:ext cx="8501040" cy="4286160"/>
              <a:chOff x="285840" y="2143080"/>
              <a:chExt cx="8501040" cy="4286160"/>
            </a:xfrm>
          </p:grpSpPr>
          <p:pic>
            <p:nvPicPr>
              <p:cNvPr id="1014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286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15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6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17" name="그룹 91"/>
              <p:cNvGrpSpPr/>
              <p:nvPr/>
            </p:nvGrpSpPr>
            <p:grpSpPr>
              <a:xfrm>
                <a:off x="928440" y="1928880"/>
                <a:ext cx="2937960" cy="551160"/>
                <a:chOff x="928440" y="1928880"/>
                <a:chExt cx="2937960" cy="551160"/>
              </a:xfrm>
            </p:grpSpPr>
            <p:grpSp>
              <p:nvGrpSpPr>
                <p:cNvPr id="1018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19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0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6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1" name="직사각형 19"/>
                <p:cNvSpPr/>
                <p:nvPr/>
              </p:nvSpPr>
              <p:spPr>
                <a:xfrm>
                  <a:off x="1812600" y="1928880"/>
                  <a:ext cx="20538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전향적 전이와 역행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2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3" name="그룹 90"/>
          <p:cNvGrpSpPr/>
          <p:nvPr/>
        </p:nvGrpSpPr>
        <p:grpSpPr>
          <a:xfrm>
            <a:off x="1152720" y="2714760"/>
            <a:ext cx="7823160" cy="2132280"/>
            <a:chOff x="1152720" y="2714760"/>
            <a:chExt cx="7823160" cy="2132280"/>
          </a:xfrm>
        </p:grpSpPr>
        <p:grpSp>
          <p:nvGrpSpPr>
            <p:cNvPr id="1024" name="그룹 142"/>
            <p:cNvGrpSpPr/>
            <p:nvPr/>
          </p:nvGrpSpPr>
          <p:grpSpPr>
            <a:xfrm>
              <a:off x="1152720" y="2714760"/>
              <a:ext cx="3091320" cy="505440"/>
              <a:chOff x="1152720" y="2714760"/>
              <a:chExt cx="3091320" cy="505440"/>
            </a:xfrm>
          </p:grpSpPr>
          <p:grpSp>
            <p:nvGrpSpPr>
              <p:cNvPr id="1025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1026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7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8" name="직사각형 32"/>
              <p:cNvSpPr/>
              <p:nvPr/>
            </p:nvSpPr>
            <p:spPr>
              <a:xfrm>
                <a:off x="1440720" y="2714760"/>
                <a:ext cx="28033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9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0" name="그룹 114"/>
            <p:cNvGrpSpPr/>
            <p:nvPr/>
          </p:nvGrpSpPr>
          <p:grpSpPr>
            <a:xfrm>
              <a:off x="1376280" y="3107160"/>
              <a:ext cx="7599600" cy="1739880"/>
              <a:chOff x="1376280" y="3107160"/>
              <a:chExt cx="7599600" cy="1739880"/>
            </a:xfrm>
          </p:grpSpPr>
          <p:sp>
            <p:nvSpPr>
              <p:cNvPr id="1031" name="직사각형 28"/>
              <p:cNvSpPr/>
              <p:nvPr/>
            </p:nvSpPr>
            <p:spPr>
              <a:xfrm>
                <a:off x="1538640" y="310716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영향을 미치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정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부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2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1033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4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035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3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3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8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4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6" name="그룹 90"/>
          <p:cNvGrpSpPr/>
          <p:nvPr/>
        </p:nvGrpSpPr>
        <p:grpSpPr>
          <a:xfrm>
            <a:off x="1155600" y="4640400"/>
            <a:ext cx="7820280" cy="1309320"/>
            <a:chOff x="1155600" y="4640400"/>
            <a:chExt cx="7820280" cy="1309320"/>
          </a:xfrm>
        </p:grpSpPr>
        <p:grpSp>
          <p:nvGrpSpPr>
            <p:cNvPr id="1047" name="그룹 142"/>
            <p:cNvGrpSpPr/>
            <p:nvPr/>
          </p:nvGrpSpPr>
          <p:grpSpPr>
            <a:xfrm>
              <a:off x="1155600" y="4640400"/>
              <a:ext cx="3226320" cy="505440"/>
              <a:chOff x="1155600" y="4640400"/>
              <a:chExt cx="3226320" cy="505440"/>
            </a:xfrm>
          </p:grpSpPr>
          <p:grpSp>
            <p:nvGrpSpPr>
              <p:cNvPr id="1048" name="그룹 97"/>
              <p:cNvGrpSpPr/>
              <p:nvPr/>
            </p:nvGrpSpPr>
            <p:grpSpPr>
              <a:xfrm>
                <a:off x="1155600" y="4705200"/>
                <a:ext cx="305640" cy="337320"/>
                <a:chOff x="1155600" y="4705200"/>
                <a:chExt cx="305640" cy="337320"/>
              </a:xfrm>
            </p:grpSpPr>
            <p:pic>
              <p:nvPicPr>
                <p:cNvPr id="104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7545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0" name="TextBox 146"/>
                <p:cNvSpPr/>
                <p:nvPr/>
              </p:nvSpPr>
              <p:spPr>
                <a:xfrm>
                  <a:off x="1155600" y="4705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직사각형 42"/>
              <p:cNvSpPr/>
              <p:nvPr/>
            </p:nvSpPr>
            <p:spPr>
              <a:xfrm>
                <a:off x="1432440" y="4640400"/>
                <a:ext cx="29494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t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2" name="직선 연결선 37"/>
            <p:cNvSpPr/>
            <p:nvPr/>
          </p:nvSpPr>
          <p:spPr>
            <a:xfrm>
              <a:off x="4643640" y="4925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3" name="그룹 114"/>
            <p:cNvGrpSpPr/>
            <p:nvPr/>
          </p:nvGrpSpPr>
          <p:grpSpPr>
            <a:xfrm>
              <a:off x="1376280" y="5032800"/>
              <a:ext cx="7599600" cy="916920"/>
              <a:chOff x="1376280" y="5032800"/>
              <a:chExt cx="7599600" cy="916920"/>
            </a:xfrm>
          </p:grpSpPr>
          <p:sp>
            <p:nvSpPr>
              <p:cNvPr id="1054" name="직사각형 39"/>
              <p:cNvSpPr/>
              <p:nvPr/>
            </p:nvSpPr>
            <p:spPr>
              <a:xfrm>
                <a:off x="1538640" y="503280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의 학습활동이 과거에 학습한 활동을 이해하는 데 영향을 주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오늘 신문에서 읽은 내용으로 어제 수업 내용을 더 정확하게 이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5" name="타원 40"/>
              <p:cNvGrpSpPr/>
              <p:nvPr/>
            </p:nvGrpSpPr>
            <p:grpSpPr>
              <a:xfrm>
                <a:off x="1376280" y="5205960"/>
                <a:ext cx="223560" cy="231480"/>
                <a:chOff x="1376280" y="5205960"/>
                <a:chExt cx="223560" cy="231480"/>
              </a:xfrm>
            </p:grpSpPr>
            <p:pic>
              <p:nvPicPr>
                <p:cNvPr id="1056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52059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7" name=""/>
                <p:cNvSpPr/>
                <p:nvPr/>
              </p:nvSpPr>
              <p:spPr>
                <a:xfrm rot="10800000">
                  <a:off x="1455480" y="52614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59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106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61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6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6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68" name="TextBox 88"/>
            <p:cNvSpPr/>
            <p:nvPr/>
          </p:nvSpPr>
          <p:spPr>
            <a:xfrm>
              <a:off x="67860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9" name="Picture 5" descr="233"/>
          <p:cNvPicPr/>
          <p:nvPr/>
        </p:nvPicPr>
        <p:blipFill>
          <a:blip r:embed="rId3"/>
          <a:srcRect l="2544" t="0" r="24313" b="0"/>
          <a:stretch/>
        </p:blipFill>
        <p:spPr>
          <a:xfrm>
            <a:off x="714240" y="2286000"/>
            <a:ext cx="8072640" cy="350028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1070" name="그룹 13"/>
          <p:cNvGrpSpPr/>
          <p:nvPr/>
        </p:nvGrpSpPr>
        <p:grpSpPr>
          <a:xfrm>
            <a:off x="1071720" y="2308320"/>
            <a:ext cx="8072280" cy="2151360"/>
            <a:chOff x="1071720" y="2308320"/>
            <a:chExt cx="8072280" cy="2151360"/>
          </a:xfrm>
        </p:grpSpPr>
        <p:sp>
          <p:nvSpPr>
            <p:cNvPr id="1071" name="직사각형 51"/>
            <p:cNvSpPr/>
            <p:nvPr/>
          </p:nvSpPr>
          <p:spPr>
            <a:xfrm>
              <a:off x="1285920" y="247788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직사각형 40"/>
            <p:cNvSpPr/>
            <p:nvPr/>
          </p:nvSpPr>
          <p:spPr>
            <a:xfrm>
              <a:off x="1071720" y="2308320"/>
              <a:ext cx="80722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)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태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간의 격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1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에 제시된 조건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2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통해 달성하려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(3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 혹은 경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에 도달하려는 인지적 조작 혹은 활동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-solving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상태를 바람직한 상태로 바꾸는 과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3" name="타원 41"/>
            <p:cNvGrpSpPr/>
            <p:nvPr/>
          </p:nvGrpSpPr>
          <p:grpSpPr>
            <a:xfrm>
              <a:off x="1072800" y="2383560"/>
              <a:ext cx="231480" cy="237600"/>
              <a:chOff x="1072800" y="2383560"/>
              <a:chExt cx="231480" cy="237600"/>
            </a:xfrm>
          </p:grpSpPr>
          <p:pic>
            <p:nvPicPr>
              <p:cNvPr id="1074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1072800" y="23835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5" name=""/>
              <p:cNvSpPr/>
              <p:nvPr/>
            </p:nvSpPr>
            <p:spPr>
              <a:xfrm rot="10800000">
                <a:off x="1157040" y="24429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6" name="타원 52"/>
            <p:cNvGrpSpPr/>
            <p:nvPr/>
          </p:nvGrpSpPr>
          <p:grpSpPr>
            <a:xfrm>
              <a:off x="1072800" y="4072680"/>
              <a:ext cx="231480" cy="231480"/>
              <a:chOff x="1072800" y="4072680"/>
              <a:chExt cx="231480" cy="231480"/>
            </a:xfrm>
          </p:grpSpPr>
          <p:pic>
            <p:nvPicPr>
              <p:cNvPr id="1077" name="타원 52" descr=""/>
              <p:cNvPicPr/>
              <p:nvPr/>
            </p:nvPicPr>
            <p:blipFill>
              <a:blip r:embed="rId5"/>
              <a:stretch/>
            </p:blipFill>
            <p:spPr>
              <a:xfrm>
                <a:off x="1072800" y="40726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8" name=""/>
              <p:cNvSpPr/>
              <p:nvPr/>
            </p:nvSpPr>
            <p:spPr>
              <a:xfrm rot="10800000">
                <a:off x="1157040" y="413100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9" name="그룹 56"/>
          <p:cNvGrpSpPr/>
          <p:nvPr/>
        </p:nvGrpSpPr>
        <p:grpSpPr>
          <a:xfrm>
            <a:off x="2286000" y="4786200"/>
            <a:ext cx="4572000" cy="571680"/>
            <a:chOff x="2286000" y="4786200"/>
            <a:chExt cx="4572000" cy="571680"/>
          </a:xfrm>
        </p:grpSpPr>
        <p:grpSp>
          <p:nvGrpSpPr>
            <p:cNvPr id="1080" name="모서리가 둥근 직사각형 53"/>
            <p:cNvGrpSpPr/>
            <p:nvPr/>
          </p:nvGrpSpPr>
          <p:grpSpPr>
            <a:xfrm>
              <a:off x="2286000" y="4786200"/>
              <a:ext cx="1728360" cy="571680"/>
              <a:chOff x="2286000" y="4786200"/>
              <a:chExt cx="1728360" cy="571680"/>
            </a:xfrm>
          </p:grpSpPr>
          <p:pic>
            <p:nvPicPr>
              <p:cNvPr id="1081" name="모서리가 둥근 직사각형 53" descr=""/>
              <p:cNvPicPr/>
              <p:nvPr/>
            </p:nvPicPr>
            <p:blipFill>
              <a:blip r:embed="rId6"/>
              <a:stretch/>
            </p:blipFill>
            <p:spPr>
              <a:xfrm>
                <a:off x="228600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>
                <a:off x="243360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 상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모서리가 둥근 직사각형 54"/>
            <p:cNvGrpSpPr/>
            <p:nvPr/>
          </p:nvGrpSpPr>
          <p:grpSpPr>
            <a:xfrm>
              <a:off x="5129640" y="4786200"/>
              <a:ext cx="1728360" cy="571680"/>
              <a:chOff x="5129640" y="4786200"/>
              <a:chExt cx="1728360" cy="571680"/>
            </a:xfrm>
          </p:grpSpPr>
          <p:pic>
            <p:nvPicPr>
              <p:cNvPr id="1084" name="모서리가 둥근 직사각형 54" descr=""/>
              <p:cNvPicPr/>
              <p:nvPr/>
            </p:nvPicPr>
            <p:blipFill>
              <a:blip r:embed="rId7"/>
              <a:stretch/>
            </p:blipFill>
            <p:spPr>
              <a:xfrm>
                <a:off x="512964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>
                <a:off x="527832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오른쪽 화살표 55"/>
            <p:cNvGrpSpPr/>
            <p:nvPr/>
          </p:nvGrpSpPr>
          <p:grpSpPr>
            <a:xfrm>
              <a:off x="4239720" y="4947120"/>
              <a:ext cx="739800" cy="254160"/>
              <a:chOff x="4239720" y="4947120"/>
              <a:chExt cx="739800" cy="254160"/>
            </a:xfrm>
          </p:grpSpPr>
          <p:pic>
            <p:nvPicPr>
              <p:cNvPr id="1087" name="오른쪽 화살표 55" descr=""/>
              <p:cNvPicPr/>
              <p:nvPr/>
            </p:nvPicPr>
            <p:blipFill>
              <a:blip r:embed="rId8"/>
              <a:stretch/>
            </p:blipFill>
            <p:spPr>
              <a:xfrm>
                <a:off x="4239720" y="4947120"/>
                <a:ext cx="739800" cy="25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8" name=""/>
              <p:cNvSpPr/>
              <p:nvPr/>
            </p:nvSpPr>
            <p:spPr>
              <a:xfrm>
                <a:off x="4303800" y="5016960"/>
                <a:ext cx="558720" cy="7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90" name="그룹 26"/>
          <p:cNvGrpSpPr/>
          <p:nvPr/>
        </p:nvGrpSpPr>
        <p:grpSpPr>
          <a:xfrm>
            <a:off x="928800" y="1895400"/>
            <a:ext cx="7505640" cy="4415040"/>
            <a:chOff x="928800" y="1895400"/>
            <a:chExt cx="7505640" cy="4415040"/>
          </a:xfrm>
        </p:grpSpPr>
        <p:sp>
          <p:nvSpPr>
            <p:cNvPr id="1091" name="AutoShape 4"/>
            <p:cNvSpPr/>
            <p:nvPr/>
          </p:nvSpPr>
          <p:spPr>
            <a:xfrm>
              <a:off x="5639040" y="364320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ef2cc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Text Box 5"/>
            <p:cNvSpPr/>
            <p:nvPr/>
          </p:nvSpPr>
          <p:spPr>
            <a:xfrm>
              <a:off x="5943600" y="368064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AutoShape 6"/>
            <p:cNvSpPr/>
            <p:nvPr/>
          </p:nvSpPr>
          <p:spPr>
            <a:xfrm>
              <a:off x="928800" y="361944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9e4ff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Text Box 7"/>
            <p:cNvSpPr/>
            <p:nvPr/>
          </p:nvSpPr>
          <p:spPr>
            <a:xfrm>
              <a:off x="1214280" y="3702600"/>
              <a:ext cx="20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AutoShape 8"/>
            <p:cNvSpPr/>
            <p:nvPr/>
          </p:nvSpPr>
          <p:spPr>
            <a:xfrm>
              <a:off x="3451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9"/>
            <p:cNvSpPr/>
            <p:nvPr/>
          </p:nvSpPr>
          <p:spPr>
            <a:xfrm>
              <a:off x="345132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aedfe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AutoShape 10"/>
            <p:cNvSpPr/>
            <p:nvPr/>
          </p:nvSpPr>
          <p:spPr>
            <a:xfrm flipH="1">
              <a:off x="4945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11"/>
            <p:cNvSpPr/>
            <p:nvPr/>
          </p:nvSpPr>
          <p:spPr>
            <a:xfrm flipH="1">
              <a:off x="492840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ffdfc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9" name="Group 12"/>
            <p:cNvGrpSpPr/>
            <p:nvPr/>
          </p:nvGrpSpPr>
          <p:grpSpPr>
            <a:xfrm>
              <a:off x="3170160" y="1895400"/>
              <a:ext cx="2998440" cy="1600920"/>
              <a:chOff x="3170160" y="1895400"/>
              <a:chExt cx="2998440" cy="1600920"/>
            </a:xfrm>
          </p:grpSpPr>
          <p:grpSp>
            <p:nvGrpSpPr>
              <p:cNvPr id="1100" name="Group 13"/>
              <p:cNvGrpSpPr/>
              <p:nvPr/>
            </p:nvGrpSpPr>
            <p:grpSpPr>
              <a:xfrm>
                <a:off x="3170160" y="2037960"/>
                <a:ext cx="2998440" cy="1458360"/>
                <a:chOff x="3170160" y="2037960"/>
                <a:chExt cx="2998440" cy="1458360"/>
              </a:xfrm>
            </p:grpSpPr>
            <p:sp>
              <p:nvSpPr>
                <p:cNvPr id="1101" name="Oval 14"/>
                <p:cNvSpPr/>
                <p:nvPr/>
              </p:nvSpPr>
              <p:spPr>
                <a:xfrm>
                  <a:off x="3202920" y="208440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4882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Oval 15"/>
                <p:cNvSpPr/>
                <p:nvPr/>
              </p:nvSpPr>
              <p:spPr>
                <a:xfrm>
                  <a:off x="3170160" y="2037960"/>
                  <a:ext cx="2965680" cy="141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5c0e9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3" name="Oval 16"/>
              <p:cNvSpPr/>
              <p:nvPr/>
            </p:nvSpPr>
            <p:spPr>
              <a:xfrm>
                <a:off x="3311640" y="189540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6a583b"/>
                  </a:gs>
                  <a:gs pos="100000">
                    <a:srgbClr val="e6bf8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Oval 17"/>
              <p:cNvSpPr/>
              <p:nvPr/>
            </p:nvSpPr>
            <p:spPr>
              <a:xfrm>
                <a:off x="3346560" y="1902960"/>
                <a:ext cx="2619360" cy="1307880"/>
              </a:xfrm>
              <a:prstGeom prst="ellipse">
                <a:avLst/>
              </a:prstGeom>
              <a:gradFill rotWithShape="0">
                <a:gsLst>
                  <a:gs pos="0">
                    <a:srgbClr val="e6bf80">
                      <a:alpha val="0"/>
                    </a:srgbClr>
                  </a:gs>
                  <a:gs pos="100000">
                    <a:srgbClr val="f6e9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Oval 18"/>
              <p:cNvSpPr/>
              <p:nvPr/>
            </p:nvSpPr>
            <p:spPr>
              <a:xfrm>
                <a:off x="3373560" y="1915920"/>
                <a:ext cx="2492280" cy="1221840"/>
              </a:xfrm>
              <a:prstGeom prst="ellipse">
                <a:avLst/>
              </a:prstGeom>
              <a:gradFill rotWithShape="0">
                <a:gsLst>
                  <a:gs pos="0">
                    <a:srgbClr val="b69765"/>
                  </a:gs>
                  <a:gs pos="100000">
                    <a:srgbClr val="e6bf80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Oval 19"/>
              <p:cNvSpPr/>
              <p:nvPr/>
            </p:nvSpPr>
            <p:spPr>
              <a:xfrm>
                <a:off x="3505320" y="1942920"/>
                <a:ext cx="2193840" cy="99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6bf80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7" name="Text Box 20"/>
            <p:cNvSpPr/>
            <p:nvPr/>
          </p:nvSpPr>
          <p:spPr>
            <a:xfrm>
              <a:off x="4082400" y="2262240"/>
              <a:ext cx="117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의 종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Text Box 7"/>
            <p:cNvSpPr/>
            <p:nvPr/>
          </p:nvSpPr>
          <p:spPr>
            <a:xfrm>
              <a:off x="113796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분명히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모두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Text Box 7"/>
            <p:cNvSpPr/>
            <p:nvPr/>
          </p:nvSpPr>
          <p:spPr>
            <a:xfrm>
              <a:off x="585792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모호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부족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하지 않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2" name="직사각형 13"/>
              <p:cNvSpPr/>
              <p:nvPr/>
            </p:nvSpPr>
            <p:spPr>
              <a:xfrm>
                <a:off x="13323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타원 40"/>
          <p:cNvGrpSpPr/>
          <p:nvPr/>
        </p:nvGrpSpPr>
        <p:grpSpPr>
          <a:xfrm>
            <a:off x="987480" y="4486320"/>
            <a:ext cx="201600" cy="208080"/>
            <a:chOff x="987480" y="4486320"/>
            <a:chExt cx="201600" cy="208080"/>
          </a:xfrm>
        </p:grpSpPr>
        <p:pic>
          <p:nvPicPr>
            <p:cNvPr id="1121" name="타원 40" descr=""/>
            <p:cNvPicPr/>
            <p:nvPr/>
          </p:nvPicPr>
          <p:blipFill>
            <a:blip r:embed="rId3"/>
            <a:stretch/>
          </p:blipFill>
          <p:spPr>
            <a:xfrm>
              <a:off x="987480" y="448632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2" name=""/>
            <p:cNvSpPr/>
            <p:nvPr/>
          </p:nvSpPr>
          <p:spPr>
            <a:xfrm rot="10800000">
              <a:off x="1068120" y="454140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타원 41"/>
          <p:cNvGrpSpPr/>
          <p:nvPr/>
        </p:nvGrpSpPr>
        <p:grpSpPr>
          <a:xfrm>
            <a:off x="987480" y="4883040"/>
            <a:ext cx="201600" cy="206640"/>
            <a:chOff x="987480" y="4883040"/>
            <a:chExt cx="201600" cy="206640"/>
          </a:xfrm>
        </p:grpSpPr>
        <p:pic>
          <p:nvPicPr>
            <p:cNvPr id="1124" name="타원 41" descr=""/>
            <p:cNvPicPr/>
            <p:nvPr/>
          </p:nvPicPr>
          <p:blipFill>
            <a:blip r:embed="rId4"/>
            <a:stretch/>
          </p:blipFill>
          <p:spPr>
            <a:xfrm>
              <a:off x="98748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5" name=""/>
            <p:cNvSpPr/>
            <p:nvPr/>
          </p:nvSpPr>
          <p:spPr>
            <a:xfrm rot="10800000">
              <a:off x="1068120" y="493848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타원 42"/>
          <p:cNvGrpSpPr/>
          <p:nvPr/>
        </p:nvGrpSpPr>
        <p:grpSpPr>
          <a:xfrm>
            <a:off x="987480" y="5529240"/>
            <a:ext cx="201600" cy="206280"/>
            <a:chOff x="987480" y="5529240"/>
            <a:chExt cx="201600" cy="206280"/>
          </a:xfrm>
        </p:grpSpPr>
        <p:pic>
          <p:nvPicPr>
            <p:cNvPr id="1127" name="타원 42" descr=""/>
            <p:cNvPicPr/>
            <p:nvPr/>
          </p:nvPicPr>
          <p:blipFill>
            <a:blip r:embed="rId5"/>
            <a:stretch/>
          </p:blipFill>
          <p:spPr>
            <a:xfrm>
              <a:off x="987480" y="5529240"/>
              <a:ext cx="2016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8" name=""/>
            <p:cNvSpPr/>
            <p:nvPr/>
          </p:nvSpPr>
          <p:spPr>
            <a:xfrm rot="10800000">
              <a:off x="1068120" y="55814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타원 43"/>
          <p:cNvGrpSpPr/>
          <p:nvPr/>
        </p:nvGrpSpPr>
        <p:grpSpPr>
          <a:xfrm>
            <a:off x="5718240" y="5522760"/>
            <a:ext cx="201600" cy="208080"/>
            <a:chOff x="5718240" y="5522760"/>
            <a:chExt cx="201600" cy="208080"/>
          </a:xfrm>
        </p:grpSpPr>
        <p:pic>
          <p:nvPicPr>
            <p:cNvPr id="1130" name="타원 43" descr=""/>
            <p:cNvPicPr/>
            <p:nvPr/>
          </p:nvPicPr>
          <p:blipFill>
            <a:blip r:embed="rId6"/>
            <a:stretch/>
          </p:blipFill>
          <p:spPr>
            <a:xfrm>
              <a:off x="5718240" y="552276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1" name=""/>
            <p:cNvSpPr/>
            <p:nvPr/>
          </p:nvSpPr>
          <p:spPr>
            <a:xfrm rot="10800000">
              <a:off x="5795640" y="557676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2" name="타원 44"/>
          <p:cNvGrpSpPr/>
          <p:nvPr/>
        </p:nvGrpSpPr>
        <p:grpSpPr>
          <a:xfrm>
            <a:off x="5718240" y="4883040"/>
            <a:ext cx="201600" cy="206640"/>
            <a:chOff x="5718240" y="4883040"/>
            <a:chExt cx="201600" cy="206640"/>
          </a:xfrm>
        </p:grpSpPr>
        <p:pic>
          <p:nvPicPr>
            <p:cNvPr id="1133" name="타원 44" descr=""/>
            <p:cNvPicPr/>
            <p:nvPr/>
          </p:nvPicPr>
          <p:blipFill>
            <a:blip r:embed="rId7"/>
            <a:stretch/>
          </p:blipFill>
          <p:spPr>
            <a:xfrm>
              <a:off x="571824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4" name=""/>
            <p:cNvSpPr/>
            <p:nvPr/>
          </p:nvSpPr>
          <p:spPr>
            <a:xfrm rot="10800000">
              <a:off x="5795640" y="493380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5" name="타원 45"/>
          <p:cNvGrpSpPr/>
          <p:nvPr/>
        </p:nvGrpSpPr>
        <p:grpSpPr>
          <a:xfrm>
            <a:off x="5718240" y="4492800"/>
            <a:ext cx="201600" cy="207720"/>
            <a:chOff x="5718240" y="4492800"/>
            <a:chExt cx="201600" cy="207720"/>
          </a:xfrm>
        </p:grpSpPr>
        <p:pic>
          <p:nvPicPr>
            <p:cNvPr id="1136" name="타원 45" descr=""/>
            <p:cNvPicPr/>
            <p:nvPr/>
          </p:nvPicPr>
          <p:blipFill>
            <a:blip r:embed="rId8"/>
            <a:stretch/>
          </p:blipFill>
          <p:spPr>
            <a:xfrm>
              <a:off x="5718240" y="4492800"/>
              <a:ext cx="20160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7" name=""/>
            <p:cNvSpPr/>
            <p:nvPr/>
          </p:nvSpPr>
          <p:spPr>
            <a:xfrm rot="10800000">
              <a:off x="5795640" y="45446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8" name="직선 연결선 47"/>
          <p:cNvSpPr/>
          <p:nvPr/>
        </p:nvSpPr>
        <p:spPr>
          <a:xfrm>
            <a:off x="114300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직선 연결선 50"/>
          <p:cNvSpPr/>
          <p:nvPr/>
        </p:nvSpPr>
        <p:spPr>
          <a:xfrm>
            <a:off x="585792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1:00:20Z</dcterms:modified>
  <cp:revision>403</cp:revision>
  <dc:subject/>
  <dc:title>PowerPoint Template</dc:title>
</cp:coreProperties>
</file>